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BC721-731E-46E5-819C-1707F94BB88B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5CB2-EBB9-47BB-B194-3FD4F9B0D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9878-A395-4BAF-853A-1B37158E8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4C2712-332C-4A7C-87E8-C8B77B81A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1D385F-CEFA-4374-8892-CF4AA4DE4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5E89B7-7996-465F-BA85-CC3032911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E88BE2-9840-46FD-8C79-C8B4F1D2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25598C-4BC0-483B-9E58-57974C51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0FE71F-0E86-4CB3-AE8C-C60EA625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736312-4984-462C-893E-D60A03382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33F8C2-8342-42EC-98AA-D7B12C46D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E5143C-D555-452A-AE89-2D29E79AD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B2874B-F69A-41AB-BDC4-785941257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E608-89A5-4198-BD3C-2B35C3A93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338B01-D518-4E38-87A8-9E7DE9D59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44E700-A042-493E-85B4-0254E7FEC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5B78E1-1ADA-4F32-B68C-83E67D51D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57543A-A418-4850-8FE1-73D8945E6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1AAB4F-3605-414D-A622-9814F4B8A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B0F35D-99E2-4509-BF12-05D1C2BA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1E80E2-45CC-4EAB-B169-A6A5BE16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AAF854-1791-43C7-9CC8-FA6B8C0F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107C0A-9520-4CBC-B857-3C46E231E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A00D23-BE6D-42DB-BC7E-C6222A053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5C7D-1BF4-4D01-8AFA-EFFEE4208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927513-3717-4685-8623-106E3C02B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93B61F-24E1-4F47-892C-20827973C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8C3308-9335-48BA-9521-CA78A425D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03D221-607C-4E32-AB48-8C8C5E5F8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9DBC22-F5C6-449B-817B-981BA7E24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F3E5CF-DBF5-4A86-866E-782285049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66BE43-2C52-47BB-926B-8C4C6F40B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280F7F-C933-42D7-89DC-B5CC3075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2B5998-599D-462D-BEB0-0E699770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9B4D1D-46FF-4F0C-9A0B-08F8F07C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2D0FF-A2C8-4758-B85B-4A511F03F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16E446-C947-44D6-B7B6-C9B23995A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F8C4ED-00A7-42C3-BAEC-ED7C5BBCB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DE3E55-946E-4856-B03D-A25005E05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30CCE4-C74A-4F74-9178-7C919FED0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636DA0-08FB-46C3-8761-6251C10E7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E4BCFC-DF30-457F-A472-836DBDD12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42D70A-0EBC-49EA-BC9D-9873EBFFB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799732-8DBD-4BD9-A8A9-0CFD65811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007434-FFFF-47D3-85E2-36F3E55A0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7CADD6-0D7D-4599-8C1F-B6177E78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57F7D-F4FA-48BF-B6AE-23CD50BB5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DF3E28-6483-43E5-A320-E988467F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96DEC8-33AD-42DF-9BD5-05D51CDD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E31470-FA1B-466F-9545-A06B2F0F1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AB6FB6-CB6C-4DC0-A4C4-7717CFC99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908457-E4EA-4EC5-9D18-AB0158513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A705E9F-0561-41CB-9C54-6ED46C94C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73BA003-A1E2-477A-AC28-77ED74B7B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A95C3B9-3D3B-48C6-97FE-FE72B7ADD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B3E8BF8-57BA-4CBF-AF85-B474E1BF7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3DC449C-A463-498C-9D8F-F87D71806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F32DE-2B10-4B7F-A165-37F0F0F05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4CB0F12-E45A-4E39-9788-2DA98F5FD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3FFE02F-D9FD-4EB2-B34B-67D0FF8E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ACE3B29-D213-410F-A7BE-410F3CEC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4382ABD-5E18-4A72-91B8-CD2A28DA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9A5C083-4C45-46A3-BEFF-6C72FDF5C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4644B19-CDC5-4099-B69C-41803B2D8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3E80975-FD8B-496E-87ED-F0D05F794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0935A-53C7-4ABC-B1B1-7AAE60F9E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21414-2846-46C7-8263-C32AFC0FE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B648C-AB01-4F35-AB9C-ABCC9B24E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7696E-B083-4F03-9C16-70B6CA6E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2BB7-1F98-4041-A288-CADB447D4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A904E-CE45-42AD-B2E0-3401D417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B9CDD-98EC-42B2-B67C-7A425282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F9194-91E2-4836-82E9-74EBBEE64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408B6-5D4E-415F-AE6C-6424656C2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14254-FE77-42E7-B0B0-86A08CA5C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A7791-CF9C-41A7-BFA8-CB1AE5955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C4E00-4A57-44C8-A941-3C681B75A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FD4A7-03C8-4430-A627-C04ADD943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A6FFC-06C9-452D-8330-F0F2CB3E7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51790-B391-4EE7-B3DB-CF7A6999E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FE66-05EA-41BD-99FC-A941A1A76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E5F3C-B7ED-43F3-96E4-035CA95C0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02898-9E9F-44F6-91B8-F2524615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E284D-DC7C-4DBF-8349-88937044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7B438-3C97-470E-8E92-895BECD3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BF6A1-0BA2-4786-BE2E-D49E84E6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8D7D4-9040-4D2A-847C-B5C6A1198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7B98A-ECFD-4C02-9AC4-05BA5322B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5524C-37CB-4C7D-82C5-7773BA5E9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FBDC7-2634-4A26-AD22-27B8BA46B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6DDC0-2971-4BAE-8735-94A209503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C75E-DA2C-4BF7-8279-409F8B584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52A91-87AD-4ADE-8235-F96CF0640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8ED44-D11C-47FC-8319-DEA0C18C0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C233A-000F-4BE6-AEED-A5996AE45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B4437-7680-47F5-ADCE-74EB8EC4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0C414-A726-4308-8CF7-8397C54D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95EA6-0557-4423-8835-4957F5BA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27299-7516-4187-BE5D-B5DF80605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730EF-2D16-4034-A611-C17B31136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EC1D4-6F54-45CE-9F61-6F87803CC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FA596-EE2B-4911-A66F-5794F0A7D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A2B3-9129-4BB3-80C7-F7668BFF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D39C1-5EBA-40FC-9F82-7C3B743E5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A42EE-6A88-4D54-A451-BCA014163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E7DF3-3357-4DD3-AE44-80DEDECB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C0B6A-7D06-4234-8EF5-662E6A01C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96DDA-7CB6-4718-BE58-A1BFFA743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B51B2-8F31-4254-BE76-C9012F7F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C917F-7635-43C0-AD0F-7AB1C554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04F6C-3B8C-470C-9BCF-73EBA962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09951-EEAB-42A5-88D9-8EBB70FA4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986C3-1367-479D-9D0D-4CD20EEFC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F9D3-85C2-43A0-8509-302C1EFA7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92DB2-1105-4DD1-87B5-F7734B167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7F5DB7-34E8-4435-8D37-B627A9D8A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DC6D77-5B4B-4E78-943D-0575E2318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999409-D4D8-43BB-8EB1-C14D4FFCF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185EFA-32C9-4CFA-B90B-075021E0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1C385A-3969-4C1F-8BA5-B5513C22D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87C5BC-03F1-4F6F-B091-3635DE67E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D4CB07-9CBB-4616-88D6-3AFD85E4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C78DFC-0C13-4E9D-B4C4-49B2E37E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D54293-99FA-4C91-9B28-474488CC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0ABD-5CEA-467E-AE9A-4E912C96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65E289-7933-4454-B18C-115FF3150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0C0C66-0111-4BD3-8FB4-5C8BC9354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90DA54-F480-42E6-872B-3E4AE1288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DAED06-FE04-4A63-B00F-C5057667A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41109-4CBD-4B89-8322-517CCFDAD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918E49-604A-4C5E-8FF8-AAD9779D5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158C9-3E18-4867-9BB6-F36F25574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3C10F6-FDF5-4E83-B001-297E2613B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715AC7-8365-48A9-8127-E786006A1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E28BB-BFB1-4D07-8211-CA9533CA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1FE2-48D6-4BA7-B3A1-2847CB06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EDF42-AAB9-4D1F-AACE-C6E9FEC9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60081-7248-452B-BDBF-9D7A0681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47980D-0243-4483-BC0D-4BAE65EEA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3FE215-1EF7-4AE7-B29A-F669B1049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F743F-B488-4FE0-8535-70F70DC37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44FF2B-6976-451C-A067-11A7B3644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AE8184-CDC8-4E2D-8280-D51E119A0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604FB9-B39F-43DF-85B1-733C07D6C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D67F9E-2366-4DA9-B0B0-AFFB97FB0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E7710D-586C-4427-9556-5D016A3E3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18F5-6A32-4441-8EC3-6E6A4ABA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B94760-BD27-4DA8-B223-8E81A6A22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B62A18-00AF-46F3-B261-B7BD3CF4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79642C-1D3F-414D-BE54-B41BAC3C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AC4FD-6B7D-4224-9970-66401703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DA6457-5110-490D-8514-D6B77566B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7F711B-9B25-4BEE-BE8D-F3998EDD2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AF5683-05F2-4266-91AF-A4969F61A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605B2C-4355-469A-B4E4-4F053296D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0ECFAD-03E9-432A-9BBA-5A5FD1945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7D493E-799D-4AC6-BC6F-6157C8C9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CB8CC-2E34-429B-82EB-E2878BA6E33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F070E-7CDB-4760-96FB-0D7F85912DC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BCB07-C65F-405E-8DA4-DCBF87B452D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4109A-3803-4E22-9C6F-8B7EBB240E8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B07D0-92D1-4F9E-89F8-A3A4064C4C8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9E71D-BDC8-4309-B464-3318FB58BCD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A8DEF-DAF2-4473-A81F-A62ADCA45A0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D6C0F-F5CC-439A-9588-134D670EBB8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F7EC1-9E02-41EA-A0BA-C85A8C2EA4E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23B5E-3394-446E-9969-B2BCF2A0FF2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22885-F6F3-476A-AE6F-7D8595D797E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BB899-49CF-4319-A478-8B17B9F296F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3A54C-DC09-4B9A-9A7F-C8E8C41B2DB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1.png"/><Relationship Id="rId6" Type="http://schemas.openxmlformats.org/officeDocument/2006/relationships/image" Target="../media/image45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4.png"/><Relationship Id="rId6" Type="http://schemas.openxmlformats.org/officeDocument/2006/relationships/image" Target="../media/image45.png"/><Relationship Id="rId7" Type="http://schemas.openxmlformats.org/officeDocument/2006/relationships/image" Target="../media/image55.png"/><Relationship Id="rId8" Type="http://schemas.openxmlformats.org/officeDocument/2006/relationships/image" Target="../media/image45.png"/><Relationship Id="rId9" Type="http://schemas.openxmlformats.org/officeDocument/2006/relationships/image" Target="../media/image56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7.png"/><Relationship Id="rId6" Type="http://schemas.openxmlformats.org/officeDocument/2006/relationships/image" Target="../media/image45.png"/><Relationship Id="rId7" Type="http://schemas.openxmlformats.org/officeDocument/2006/relationships/image" Target="../media/image58.png"/><Relationship Id="rId8" Type="http://schemas.openxmlformats.org/officeDocument/2006/relationships/image" Target="../media/image45.png"/><Relationship Id="rId9" Type="http://schemas.openxmlformats.org/officeDocument/2006/relationships/image" Target="../media/image59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4.png"/><Relationship Id="rId6" Type="http://schemas.openxmlformats.org/officeDocument/2006/relationships/image" Target="../media/image67.png"/><Relationship Id="rId7" Type="http://schemas.openxmlformats.org/officeDocument/2006/relationships/image" Target="../media/image66.png"/><Relationship Id="rId8" Type="http://schemas.openxmlformats.org/officeDocument/2006/relationships/image" Target="../media/image64.png"/><Relationship Id="rId9" Type="http://schemas.openxmlformats.org/officeDocument/2006/relationships/image" Target="../media/image68.png"/><Relationship Id="rId10" Type="http://schemas.openxmlformats.org/officeDocument/2006/relationships/image" Target="../media/image66.png"/><Relationship Id="rId11" Type="http://schemas.openxmlformats.org/officeDocument/2006/relationships/image" Target="../media/image64.png"/><Relationship Id="rId12" Type="http://schemas.openxmlformats.org/officeDocument/2006/relationships/image" Target="../media/image69.png"/><Relationship Id="rId13" Type="http://schemas.openxmlformats.org/officeDocument/2006/relationships/image" Target="../media/image6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70.png"/><Relationship Id="rId1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71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72.png"/><Relationship Id="rId9" Type="http://schemas.openxmlformats.org/officeDocument/2006/relationships/image" Target="../media/image7.png"/><Relationship Id="rId10" Type="http://schemas.openxmlformats.org/officeDocument/2006/relationships/image" Target="../media/image16.png"/><Relationship Id="rId11" Type="http://schemas.openxmlformats.org/officeDocument/2006/relationships/image" Target="../media/image73.png"/><Relationship Id="rId12" Type="http://schemas.openxmlformats.org/officeDocument/2006/relationships/image" Target="../media/image7.png"/><Relationship Id="rId13" Type="http://schemas.openxmlformats.org/officeDocument/2006/relationships/image" Target="../media/image74.png"/><Relationship Id="rId14" Type="http://schemas.openxmlformats.org/officeDocument/2006/relationships/image" Target="../media/image75.png"/><Relationship Id="rId1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7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80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81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image" Target="../media/image19.png"/><Relationship Id="rId7" Type="http://schemas.openxmlformats.org/officeDocument/2006/relationships/image" Target="../media/image24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7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25.png"/><Relationship Id="rId4" Type="http://schemas.openxmlformats.org/officeDocument/2006/relationships/image" Target="../media/image31.png"/><Relationship Id="rId5" Type="http://schemas.openxmlformats.org/officeDocument/2006/relationships/image" Target="../media/image7.png"/><Relationship Id="rId6" Type="http://schemas.openxmlformats.org/officeDocument/2006/relationships/image" Target="../media/image25.png"/><Relationship Id="rId7" Type="http://schemas.openxmlformats.org/officeDocument/2006/relationships/image" Target="../media/image32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53880" y="185724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의 개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028120" y="250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3884C-7BC3-47F8-B76D-CDF31888D67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4753440" y="314316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726800" y="378612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5000040" y="4429080"/>
            <a:ext cx="23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5016960" y="511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 비판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직사각형 45"/>
          <p:cNvSpPr/>
          <p:nvPr/>
        </p:nvSpPr>
        <p:spPr>
          <a:xfrm>
            <a:off x="4929840" y="575316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7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회인지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81BA8950-01A2-47CC-B862-ABD1410F00C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Group 5"/>
          <p:cNvGrpSpPr/>
          <p:nvPr/>
        </p:nvGrpSpPr>
        <p:grpSpPr>
          <a:xfrm>
            <a:off x="1008000" y="1849320"/>
            <a:ext cx="7223040" cy="4365360"/>
            <a:chOff x="1008000" y="1849320"/>
            <a:chExt cx="7223040" cy="4365360"/>
          </a:xfrm>
        </p:grpSpPr>
        <p:grpSp>
          <p:nvGrpSpPr>
            <p:cNvPr id="1236" name="Group 6"/>
            <p:cNvGrpSpPr/>
            <p:nvPr/>
          </p:nvGrpSpPr>
          <p:grpSpPr>
            <a:xfrm>
              <a:off x="2673360" y="1849320"/>
              <a:ext cx="2363760" cy="632880"/>
              <a:chOff x="2673360" y="1849320"/>
              <a:chExt cx="2363760" cy="632880"/>
            </a:xfrm>
          </p:grpSpPr>
          <p:sp>
            <p:nvSpPr>
              <p:cNvPr id="1237" name="AutoShape 7"/>
              <p:cNvSpPr/>
              <p:nvPr/>
            </p:nvSpPr>
            <p:spPr>
              <a:xfrm>
                <a:off x="2677680" y="184932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Rectangle 8"/>
              <p:cNvSpPr/>
              <p:nvPr/>
            </p:nvSpPr>
            <p:spPr>
              <a:xfrm>
                <a:off x="2673360" y="189180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행동의 결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9" name="Line 9"/>
            <p:cNvSpPr/>
            <p:nvPr/>
          </p:nvSpPr>
          <p:spPr>
            <a:xfrm>
              <a:off x="2023920" y="2757240"/>
              <a:ext cx="3700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Line 10"/>
            <p:cNvSpPr/>
            <p:nvPr/>
          </p:nvSpPr>
          <p:spPr>
            <a:xfrm>
              <a:off x="2004840" y="2728800"/>
              <a:ext cx="144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1" name="Group 11"/>
            <p:cNvGrpSpPr/>
            <p:nvPr/>
          </p:nvGrpSpPr>
          <p:grpSpPr>
            <a:xfrm>
              <a:off x="1008000" y="3066840"/>
              <a:ext cx="2113920" cy="933120"/>
              <a:chOff x="1008000" y="3066840"/>
              <a:chExt cx="2113920" cy="933120"/>
            </a:xfrm>
          </p:grpSpPr>
          <p:sp>
            <p:nvSpPr>
              <p:cNvPr id="1242" name="AutoShape 12"/>
              <p:cNvSpPr/>
              <p:nvPr/>
            </p:nvSpPr>
            <p:spPr>
              <a:xfrm>
                <a:off x="1012320" y="3066840"/>
                <a:ext cx="210960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Rectangle 13"/>
              <p:cNvSpPr/>
              <p:nvPr/>
            </p:nvSpPr>
            <p:spPr>
              <a:xfrm>
                <a:off x="1008000" y="3129840"/>
                <a:ext cx="210960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이 다시 나타날 가능성을 증가시켜 주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Group 14"/>
            <p:cNvGrpSpPr/>
            <p:nvPr/>
          </p:nvGrpSpPr>
          <p:grpSpPr>
            <a:xfrm>
              <a:off x="4692600" y="3071520"/>
              <a:ext cx="2089080" cy="933120"/>
              <a:chOff x="4692600" y="3071520"/>
              <a:chExt cx="2089080" cy="933120"/>
            </a:xfrm>
          </p:grpSpPr>
          <p:sp>
            <p:nvSpPr>
              <p:cNvPr id="1245" name="AutoShape 15"/>
              <p:cNvSpPr/>
              <p:nvPr/>
            </p:nvSpPr>
            <p:spPr>
              <a:xfrm>
                <a:off x="4696920" y="3071520"/>
                <a:ext cx="20847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Rectangle 16"/>
              <p:cNvSpPr/>
              <p:nvPr/>
            </p:nvSpPr>
            <p:spPr>
              <a:xfrm>
                <a:off x="4692600" y="3134520"/>
                <a:ext cx="20847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다시 나타날 가능성 있는 행동을 감소시키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Group 17"/>
            <p:cNvGrpSpPr/>
            <p:nvPr/>
          </p:nvGrpSpPr>
          <p:grpSpPr>
            <a:xfrm>
              <a:off x="2439720" y="5276880"/>
              <a:ext cx="2014200" cy="932760"/>
              <a:chOff x="2439720" y="5276880"/>
              <a:chExt cx="2014200" cy="932760"/>
            </a:xfrm>
          </p:grpSpPr>
          <p:sp>
            <p:nvSpPr>
              <p:cNvPr id="1248" name="AutoShape 18"/>
              <p:cNvSpPr/>
              <p:nvPr/>
            </p:nvSpPr>
            <p:spPr>
              <a:xfrm>
                <a:off x="2444400" y="5276880"/>
                <a:ext cx="2009520" cy="932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Rectangle 19"/>
              <p:cNvSpPr/>
              <p:nvPr/>
            </p:nvSpPr>
            <p:spPr>
              <a:xfrm>
                <a:off x="2439720" y="5339880"/>
                <a:ext cx="2009880" cy="80928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부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Group 20"/>
            <p:cNvGrpSpPr/>
            <p:nvPr/>
          </p:nvGrpSpPr>
          <p:grpSpPr>
            <a:xfrm>
              <a:off x="2441520" y="4227480"/>
              <a:ext cx="2012400" cy="933120"/>
              <a:chOff x="2441520" y="4227480"/>
              <a:chExt cx="2012400" cy="933120"/>
            </a:xfrm>
          </p:grpSpPr>
          <p:sp>
            <p:nvSpPr>
              <p:cNvPr id="1251" name="AutoShape 21"/>
              <p:cNvSpPr/>
              <p:nvPr/>
            </p:nvSpPr>
            <p:spPr>
              <a:xfrm>
                <a:off x="2446200" y="4227480"/>
                <a:ext cx="200772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Rectangle 22"/>
              <p:cNvSpPr/>
              <p:nvPr/>
            </p:nvSpPr>
            <p:spPr>
              <a:xfrm>
                <a:off x="2441520" y="4290480"/>
                <a:ext cx="200808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정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제공하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3" name="Group 23"/>
            <p:cNvGrpSpPr/>
            <p:nvPr/>
          </p:nvGrpSpPr>
          <p:grpSpPr>
            <a:xfrm>
              <a:off x="6175080" y="5281560"/>
              <a:ext cx="2027160" cy="933120"/>
              <a:chOff x="6175080" y="5281560"/>
              <a:chExt cx="2027160" cy="933120"/>
            </a:xfrm>
          </p:grpSpPr>
          <p:sp>
            <p:nvSpPr>
              <p:cNvPr id="1254" name="AutoShape 24"/>
              <p:cNvSpPr/>
              <p:nvPr/>
            </p:nvSpPr>
            <p:spPr>
              <a:xfrm>
                <a:off x="6179760" y="5281560"/>
                <a:ext cx="202248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Rectangle 25"/>
              <p:cNvSpPr/>
              <p:nvPr/>
            </p:nvSpPr>
            <p:spPr>
              <a:xfrm>
                <a:off x="6175080" y="5344560"/>
                <a:ext cx="202284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제거형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Group 26"/>
            <p:cNvGrpSpPr/>
            <p:nvPr/>
          </p:nvGrpSpPr>
          <p:grpSpPr>
            <a:xfrm>
              <a:off x="6167160" y="4208400"/>
              <a:ext cx="2063880" cy="933120"/>
              <a:chOff x="6167160" y="4208400"/>
              <a:chExt cx="2063880" cy="933120"/>
            </a:xfrm>
          </p:grpSpPr>
          <p:sp>
            <p:nvSpPr>
              <p:cNvPr id="1257" name="AutoShape 27"/>
              <p:cNvSpPr/>
              <p:nvPr/>
            </p:nvSpPr>
            <p:spPr>
              <a:xfrm>
                <a:off x="6171480" y="4208400"/>
                <a:ext cx="20595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Rectangle 28"/>
              <p:cNvSpPr/>
              <p:nvPr/>
            </p:nvSpPr>
            <p:spPr>
              <a:xfrm>
                <a:off x="6167160" y="4271400"/>
                <a:ext cx="20595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여성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받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9" name="Line 29"/>
            <p:cNvSpPr/>
            <p:nvPr/>
          </p:nvSpPr>
          <p:spPr>
            <a:xfrm>
              <a:off x="5705280" y="2744640"/>
              <a:ext cx="1440" cy="308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Group 30"/>
            <p:cNvGrpSpPr/>
            <p:nvPr/>
          </p:nvGrpSpPr>
          <p:grpSpPr>
            <a:xfrm>
              <a:off x="1976400" y="3985920"/>
              <a:ext cx="439200" cy="1747800"/>
              <a:chOff x="1976400" y="3985920"/>
              <a:chExt cx="439200" cy="1747800"/>
            </a:xfrm>
          </p:grpSpPr>
          <p:sp>
            <p:nvSpPr>
              <p:cNvPr id="1261" name="Line 31"/>
              <p:cNvSpPr/>
              <p:nvPr/>
            </p:nvSpPr>
            <p:spPr>
              <a:xfrm flipH="1" flipV="1">
                <a:off x="1976400" y="46792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Line 32"/>
              <p:cNvSpPr/>
              <p:nvPr/>
            </p:nvSpPr>
            <p:spPr>
              <a:xfrm>
                <a:off x="2000160" y="39859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33"/>
              <p:cNvSpPr/>
              <p:nvPr/>
            </p:nvSpPr>
            <p:spPr>
              <a:xfrm flipH="1" flipV="1">
                <a:off x="1978920" y="56970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4" name="Group 34"/>
            <p:cNvGrpSpPr/>
            <p:nvPr/>
          </p:nvGrpSpPr>
          <p:grpSpPr>
            <a:xfrm>
              <a:off x="5697360" y="4014720"/>
              <a:ext cx="439200" cy="1747800"/>
              <a:chOff x="5697360" y="4014720"/>
              <a:chExt cx="439200" cy="1747800"/>
            </a:xfrm>
          </p:grpSpPr>
          <p:sp>
            <p:nvSpPr>
              <p:cNvPr id="1265" name="Line 35"/>
              <p:cNvSpPr/>
              <p:nvPr/>
            </p:nvSpPr>
            <p:spPr>
              <a:xfrm flipH="1" flipV="1">
                <a:off x="5697360" y="47080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Line 36"/>
              <p:cNvSpPr/>
              <p:nvPr/>
            </p:nvSpPr>
            <p:spPr>
              <a:xfrm>
                <a:off x="5721120" y="40147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37"/>
              <p:cNvSpPr/>
              <p:nvPr/>
            </p:nvSpPr>
            <p:spPr>
              <a:xfrm flipH="1" flipV="1">
                <a:off x="5699880" y="57258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8" name="Line 38"/>
            <p:cNvSpPr/>
            <p:nvPr/>
          </p:nvSpPr>
          <p:spPr>
            <a:xfrm>
              <a:off x="3830400" y="2484360"/>
              <a:ext cx="180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9" name="TextBox 41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5C1782DE-94D5-40DC-93B5-44FDB33B09B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1" name=""/>
          <p:cNvGraphicFramePr/>
          <p:nvPr/>
        </p:nvGraphicFramePr>
        <p:xfrm>
          <a:off x="438120" y="2195640"/>
          <a:ext cx="8255160" cy="4211640"/>
        </p:xfrm>
        <a:graphic>
          <a:graphicData uri="http://schemas.openxmlformats.org/drawingml/2006/table">
            <a:tbl>
              <a:tblPr/>
              <a:tblGrid>
                <a:gridCol w="1416240"/>
                <a:gridCol w="3593880"/>
                <a:gridCol w="32450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고전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조작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하지 않는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서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순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의 뒤에 온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 앞선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은 어떻게 발생하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성적인 자극이 무조건 자극과 연합될 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sequence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 차후의 행동에 영향을 미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교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래 중성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을 교사의 따뜻함과 연합하면 교실이 긍정적인 정서를 유발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질문에 답을 하면 칭찬이 주어지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그러면 답을 하려는 시도는 증가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요 연구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블로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키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2" name="TextBox 7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273" name=""/>
          <p:cNvSpPr txBox="1"/>
          <p:nvPr/>
        </p:nvSpPr>
        <p:spPr>
          <a:xfrm>
            <a:off x="457200" y="2143080"/>
            <a:ext cx="82296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274" name="그룹 35"/>
          <p:cNvGrpSpPr/>
          <p:nvPr/>
        </p:nvGrpSpPr>
        <p:grpSpPr>
          <a:xfrm>
            <a:off x="500040" y="1407960"/>
            <a:ext cx="8429760" cy="449280"/>
            <a:chOff x="500040" y="1407960"/>
            <a:chExt cx="8429760" cy="449280"/>
          </a:xfrm>
        </p:grpSpPr>
        <p:grpSp>
          <p:nvGrpSpPr>
            <p:cNvPr id="1275" name="그룹 48"/>
            <p:cNvGrpSpPr/>
            <p:nvPr/>
          </p:nvGrpSpPr>
          <p:grpSpPr>
            <a:xfrm>
              <a:off x="500040" y="1455480"/>
              <a:ext cx="8429760" cy="401760"/>
              <a:chOff x="500040" y="1455480"/>
              <a:chExt cx="8429760" cy="401760"/>
            </a:xfrm>
          </p:grpSpPr>
          <p:sp>
            <p:nvSpPr>
              <p:cNvPr id="1276" name="직사각형 13"/>
              <p:cNvSpPr/>
              <p:nvPr/>
            </p:nvSpPr>
            <p:spPr>
              <a:xfrm>
                <a:off x="1825560" y="1455480"/>
                <a:ext cx="303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과 고전적 조건형성 비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직선 연결선 18"/>
              <p:cNvSpPr/>
              <p:nvPr/>
            </p:nvSpPr>
            <p:spPr>
              <a:xfrm>
                <a:off x="500040" y="1855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8" name="그룹 49"/>
            <p:cNvGrpSpPr/>
            <p:nvPr/>
          </p:nvGrpSpPr>
          <p:grpSpPr>
            <a:xfrm>
              <a:off x="528480" y="1464840"/>
              <a:ext cx="328320" cy="319320"/>
              <a:chOff x="528480" y="1464840"/>
              <a:chExt cx="328320" cy="319320"/>
            </a:xfrm>
          </p:grpSpPr>
          <p:sp>
            <p:nvSpPr>
              <p:cNvPr id="1279" name="AutoShape 4"/>
              <p:cNvSpPr/>
              <p:nvPr/>
            </p:nvSpPr>
            <p:spPr>
              <a:xfrm>
                <a:off x="528480" y="14648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0" name="Freeform 5"/>
              <p:cNvGrpSpPr/>
              <p:nvPr/>
            </p:nvGrpSpPr>
            <p:grpSpPr>
              <a:xfrm>
                <a:off x="542160" y="1480680"/>
                <a:ext cx="176760" cy="171000"/>
                <a:chOff x="542160" y="1480680"/>
                <a:chExt cx="176760" cy="171000"/>
              </a:xfrm>
            </p:grpSpPr>
            <p:pic>
              <p:nvPicPr>
                <p:cNvPr id="12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42160" y="148068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2" name=""/>
                <p:cNvSpPr/>
                <p:nvPr/>
              </p:nvSpPr>
              <p:spPr>
                <a:xfrm>
                  <a:off x="548640" y="14850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3" name="TextBox 88"/>
            <p:cNvSpPr/>
            <p:nvPr/>
          </p:nvSpPr>
          <p:spPr>
            <a:xfrm>
              <a:off x="535680" y="1407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8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6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9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그룹 39"/>
          <p:cNvGrpSpPr/>
          <p:nvPr/>
        </p:nvGrpSpPr>
        <p:grpSpPr>
          <a:xfrm>
            <a:off x="571680" y="2214720"/>
            <a:ext cx="8215200" cy="3643200"/>
            <a:chOff x="571680" y="2214720"/>
            <a:chExt cx="8215200" cy="3643200"/>
          </a:xfrm>
        </p:grpSpPr>
        <p:grpSp>
          <p:nvGrpSpPr>
            <p:cNvPr id="1295" name="그룹 123"/>
            <p:cNvGrpSpPr/>
            <p:nvPr/>
          </p:nvGrpSpPr>
          <p:grpSpPr>
            <a:xfrm>
              <a:off x="571680" y="2214720"/>
              <a:ext cx="8215200" cy="3643200"/>
              <a:chOff x="571680" y="2214720"/>
              <a:chExt cx="8215200" cy="3643200"/>
            </a:xfrm>
          </p:grpSpPr>
          <p:pic>
            <p:nvPicPr>
              <p:cNvPr id="129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571680" y="2214720"/>
                <a:ext cx="8072640" cy="3643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7" name="직사각형 29"/>
              <p:cNvSpPr/>
              <p:nvPr/>
            </p:nvSpPr>
            <p:spPr>
              <a:xfrm>
                <a:off x="857160" y="2286000"/>
                <a:ext cx="7929720" cy="31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작적 조건형성 기법을 이용해서 행동을 변화시키려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=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응용행동분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수정의 기본전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모든 행동은 학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따라서 특정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다른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대치시킬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 또는 처벌을 효과적으로 활용하면 모든 행동을 수정할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한 행동을 증가시키는 방법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행동을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으로 대별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8" name="타원 30"/>
              <p:cNvGrpSpPr/>
              <p:nvPr/>
            </p:nvGrpSpPr>
            <p:grpSpPr>
              <a:xfrm>
                <a:off x="975240" y="3669840"/>
                <a:ext cx="231480" cy="231480"/>
                <a:chOff x="975240" y="3669840"/>
                <a:chExt cx="231480" cy="231480"/>
              </a:xfrm>
            </p:grpSpPr>
            <p:pic>
              <p:nvPicPr>
                <p:cNvPr id="1299" name="타원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75240" y="3669840"/>
                  <a:ext cx="23148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0" name=""/>
                <p:cNvSpPr/>
                <p:nvPr/>
              </p:nvSpPr>
              <p:spPr>
                <a:xfrm rot="10800000">
                  <a:off x="1059120" y="37288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1" name="타원 31"/>
              <p:cNvGrpSpPr/>
              <p:nvPr/>
            </p:nvGrpSpPr>
            <p:grpSpPr>
              <a:xfrm>
                <a:off x="835200" y="3145680"/>
                <a:ext cx="225360" cy="231480"/>
                <a:chOff x="835200" y="3145680"/>
                <a:chExt cx="225360" cy="231480"/>
              </a:xfrm>
            </p:grpSpPr>
            <p:pic>
              <p:nvPicPr>
                <p:cNvPr id="1302" name="타원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35200" y="31456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3" name=""/>
                <p:cNvSpPr/>
                <p:nvPr/>
              </p:nvSpPr>
              <p:spPr>
                <a:xfrm rot="10800000">
                  <a:off x="916200" y="3202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4" name="타원 27"/>
            <p:cNvGrpSpPr/>
            <p:nvPr/>
          </p:nvGrpSpPr>
          <p:grpSpPr>
            <a:xfrm>
              <a:off x="835200" y="4743000"/>
              <a:ext cx="225360" cy="231480"/>
              <a:chOff x="835200" y="4743000"/>
              <a:chExt cx="225360" cy="231480"/>
            </a:xfrm>
          </p:grpSpPr>
          <p:pic>
            <p:nvPicPr>
              <p:cNvPr id="1305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835200" y="4743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6" name=""/>
              <p:cNvSpPr/>
              <p:nvPr/>
            </p:nvSpPr>
            <p:spPr>
              <a:xfrm rot="10800000">
                <a:off x="916200" y="4800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7" name="오른쪽 화살표 33"/>
          <p:cNvGrpSpPr/>
          <p:nvPr/>
        </p:nvGrpSpPr>
        <p:grpSpPr>
          <a:xfrm>
            <a:off x="755640" y="2523960"/>
            <a:ext cx="353880" cy="311400"/>
            <a:chOff x="755640" y="2523960"/>
            <a:chExt cx="353880" cy="311400"/>
          </a:xfrm>
        </p:grpSpPr>
        <p:pic>
          <p:nvPicPr>
            <p:cNvPr id="1308" name="오른쪽 화살표 33" descr=""/>
            <p:cNvPicPr/>
            <p:nvPr/>
          </p:nvPicPr>
          <p:blipFill>
            <a:blip r:embed="rId6"/>
            <a:stretch/>
          </p:blipFill>
          <p:spPr>
            <a:xfrm>
              <a:off x="755640" y="2523960"/>
              <a:ext cx="35388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9" name=""/>
            <p:cNvSpPr/>
            <p:nvPr/>
          </p:nvSpPr>
          <p:spPr>
            <a:xfrm>
              <a:off x="798480" y="2611440"/>
              <a:ext cx="1746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직선 연결선 34"/>
          <p:cNvSpPr/>
          <p:nvPr/>
        </p:nvSpPr>
        <p:spPr>
          <a:xfrm>
            <a:off x="3214800" y="3214800"/>
            <a:ext cx="5287680" cy="144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1" name="타원 36"/>
          <p:cNvGrpSpPr/>
          <p:nvPr/>
        </p:nvGrpSpPr>
        <p:grpSpPr>
          <a:xfrm>
            <a:off x="974880" y="4005360"/>
            <a:ext cx="225360" cy="231840"/>
            <a:chOff x="974880" y="4005360"/>
            <a:chExt cx="225360" cy="231840"/>
          </a:xfrm>
        </p:grpSpPr>
        <p:pic>
          <p:nvPicPr>
            <p:cNvPr id="1312" name="타원 36" descr=""/>
            <p:cNvPicPr/>
            <p:nvPr/>
          </p:nvPicPr>
          <p:blipFill>
            <a:blip r:embed="rId7"/>
            <a:stretch/>
          </p:blipFill>
          <p:spPr>
            <a:xfrm>
              <a:off x="974880" y="400536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3" name=""/>
            <p:cNvSpPr/>
            <p:nvPr/>
          </p:nvSpPr>
          <p:spPr>
            <a:xfrm rot="10800000">
              <a:off x="1058760" y="4059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직선 연결선 37"/>
          <p:cNvSpPr/>
          <p:nvPr/>
        </p:nvSpPr>
        <p:spPr>
          <a:xfrm>
            <a:off x="1000080" y="4429080"/>
            <a:ext cx="75024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슬라이드 번호 개체 틀 2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77F37-47BD-458D-AC25-1EE2BC4EEBB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TextBox 23" descr=""/>
          <p:cNvPicPr/>
          <p:nvPr/>
        </p:nvPicPr>
        <p:blipFill>
          <a:blip r:embed="rId8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4F65EFEF-F3FF-47EC-8A1D-9D74D74566C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3108240" y="6006960"/>
            <a:ext cx="269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3]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강화 계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Group 113"/>
          <p:cNvGrpSpPr/>
          <p:nvPr/>
        </p:nvGrpSpPr>
        <p:grpSpPr>
          <a:xfrm>
            <a:off x="657360" y="1955880"/>
            <a:ext cx="8076960" cy="3969720"/>
            <a:chOff x="657360" y="1955880"/>
            <a:chExt cx="8076960" cy="3969720"/>
          </a:xfrm>
        </p:grpSpPr>
        <p:grpSp>
          <p:nvGrpSpPr>
            <p:cNvPr id="1320" name="Group 40"/>
            <p:cNvGrpSpPr/>
            <p:nvPr/>
          </p:nvGrpSpPr>
          <p:grpSpPr>
            <a:xfrm>
              <a:off x="2309760" y="1955880"/>
              <a:ext cx="2363760" cy="632880"/>
              <a:chOff x="2309760" y="1955880"/>
              <a:chExt cx="2363760" cy="632880"/>
            </a:xfrm>
          </p:grpSpPr>
          <p:sp>
            <p:nvSpPr>
              <p:cNvPr id="1321" name="AutoShape 41"/>
              <p:cNvSpPr/>
              <p:nvPr/>
            </p:nvSpPr>
            <p:spPr>
              <a:xfrm>
                <a:off x="2314080" y="195588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Rectangle 42"/>
              <p:cNvSpPr/>
              <p:nvPr/>
            </p:nvSpPr>
            <p:spPr>
              <a:xfrm>
                <a:off x="2309760" y="199836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계 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45"/>
            <p:cNvGrpSpPr/>
            <p:nvPr/>
          </p:nvGrpSpPr>
          <p:grpSpPr>
            <a:xfrm>
              <a:off x="657360" y="3073320"/>
              <a:ext cx="2113920" cy="618840"/>
              <a:chOff x="657360" y="3073320"/>
              <a:chExt cx="2113920" cy="618840"/>
            </a:xfrm>
          </p:grpSpPr>
          <p:sp>
            <p:nvSpPr>
              <p:cNvPr id="1324" name="AutoShape 46"/>
              <p:cNvSpPr/>
              <p:nvPr/>
            </p:nvSpPr>
            <p:spPr>
              <a:xfrm>
                <a:off x="661680" y="3073320"/>
                <a:ext cx="2109600" cy="618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Rectangle 47"/>
              <p:cNvSpPr/>
              <p:nvPr/>
            </p:nvSpPr>
            <p:spPr>
              <a:xfrm>
                <a:off x="657360" y="3115080"/>
                <a:ext cx="2109600" cy="5371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연속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모든 행동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48"/>
            <p:cNvGrpSpPr/>
            <p:nvPr/>
          </p:nvGrpSpPr>
          <p:grpSpPr>
            <a:xfrm>
              <a:off x="4329000" y="3065400"/>
              <a:ext cx="2089440" cy="658440"/>
              <a:chOff x="4329000" y="3065400"/>
              <a:chExt cx="2089440" cy="658440"/>
            </a:xfrm>
          </p:grpSpPr>
          <p:sp>
            <p:nvSpPr>
              <p:cNvPr id="1327" name="AutoShape 49"/>
              <p:cNvSpPr/>
              <p:nvPr/>
            </p:nvSpPr>
            <p:spPr>
              <a:xfrm>
                <a:off x="4333320" y="3065400"/>
                <a:ext cx="2085120" cy="658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Rectangle 50"/>
              <p:cNvSpPr/>
              <p:nvPr/>
            </p:nvSpPr>
            <p:spPr>
              <a:xfrm>
                <a:off x="4329000" y="3109680"/>
                <a:ext cx="2085120" cy="5713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헐적 강화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몇 행동만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9" name="Group 51"/>
            <p:cNvGrpSpPr/>
            <p:nvPr/>
          </p:nvGrpSpPr>
          <p:grpSpPr>
            <a:xfrm>
              <a:off x="1976400" y="5271840"/>
              <a:ext cx="1485720" cy="645840"/>
              <a:chOff x="1976400" y="5271840"/>
              <a:chExt cx="1485720" cy="645840"/>
            </a:xfrm>
          </p:grpSpPr>
          <p:sp>
            <p:nvSpPr>
              <p:cNvPr id="1330" name="AutoShape 52"/>
              <p:cNvSpPr/>
              <p:nvPr/>
            </p:nvSpPr>
            <p:spPr>
              <a:xfrm>
                <a:off x="1979280" y="5271840"/>
                <a:ext cx="14828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Rectangle 53"/>
              <p:cNvSpPr/>
              <p:nvPr/>
            </p:nvSpPr>
            <p:spPr>
              <a:xfrm>
                <a:off x="1976400" y="5315400"/>
                <a:ext cx="14828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Group 54"/>
            <p:cNvGrpSpPr/>
            <p:nvPr/>
          </p:nvGrpSpPr>
          <p:grpSpPr>
            <a:xfrm>
              <a:off x="2604960" y="4182840"/>
              <a:ext cx="1887480" cy="631440"/>
              <a:chOff x="2604960" y="4182840"/>
              <a:chExt cx="1887480" cy="631440"/>
            </a:xfrm>
          </p:grpSpPr>
          <p:sp>
            <p:nvSpPr>
              <p:cNvPr id="1333" name="AutoShape 55"/>
              <p:cNvSpPr/>
              <p:nvPr/>
            </p:nvSpPr>
            <p:spPr>
              <a:xfrm>
                <a:off x="2609280" y="4182840"/>
                <a:ext cx="1883160" cy="631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Rectangle 56"/>
              <p:cNvSpPr/>
              <p:nvPr/>
            </p:nvSpPr>
            <p:spPr>
              <a:xfrm>
                <a:off x="2604960" y="4225320"/>
                <a:ext cx="1883520" cy="5479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격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시간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5" name="Group 60"/>
            <p:cNvGrpSpPr/>
            <p:nvPr/>
          </p:nvGrpSpPr>
          <p:grpSpPr>
            <a:xfrm>
              <a:off x="6127920" y="4200480"/>
              <a:ext cx="1950840" cy="632880"/>
              <a:chOff x="6127920" y="4200480"/>
              <a:chExt cx="1950840" cy="632880"/>
            </a:xfrm>
          </p:grpSpPr>
          <p:sp>
            <p:nvSpPr>
              <p:cNvPr id="1336" name="AutoShape 61"/>
              <p:cNvSpPr/>
              <p:nvPr/>
            </p:nvSpPr>
            <p:spPr>
              <a:xfrm>
                <a:off x="6132600" y="4200480"/>
                <a:ext cx="194616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Rectangle 62"/>
              <p:cNvSpPr/>
              <p:nvPr/>
            </p:nvSpPr>
            <p:spPr>
              <a:xfrm>
                <a:off x="6127920" y="4242960"/>
                <a:ext cx="194616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비율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 변화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8" name="Group 87"/>
            <p:cNvGrpSpPr/>
            <p:nvPr/>
          </p:nvGrpSpPr>
          <p:grpSpPr>
            <a:xfrm>
              <a:off x="3683160" y="5273640"/>
              <a:ext cx="1487160" cy="645840"/>
              <a:chOff x="3683160" y="5273640"/>
              <a:chExt cx="1487160" cy="645840"/>
            </a:xfrm>
          </p:grpSpPr>
          <p:sp>
            <p:nvSpPr>
              <p:cNvPr id="1339" name="AutoShape 88"/>
              <p:cNvSpPr/>
              <p:nvPr/>
            </p:nvSpPr>
            <p:spPr>
              <a:xfrm>
                <a:off x="3686040" y="5273640"/>
                <a:ext cx="148428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Rectangle 89"/>
              <p:cNvSpPr/>
              <p:nvPr/>
            </p:nvSpPr>
            <p:spPr>
              <a:xfrm>
                <a:off x="3683160" y="5317200"/>
                <a:ext cx="148428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Group 90"/>
            <p:cNvGrpSpPr/>
            <p:nvPr/>
          </p:nvGrpSpPr>
          <p:grpSpPr>
            <a:xfrm>
              <a:off x="5538960" y="5276880"/>
              <a:ext cx="1498320" cy="645480"/>
              <a:chOff x="5538960" y="5276880"/>
              <a:chExt cx="1498320" cy="645480"/>
            </a:xfrm>
          </p:grpSpPr>
          <p:sp>
            <p:nvSpPr>
              <p:cNvPr id="1342" name="AutoShape 91"/>
              <p:cNvSpPr/>
              <p:nvPr/>
            </p:nvSpPr>
            <p:spPr>
              <a:xfrm>
                <a:off x="5542200" y="5276880"/>
                <a:ext cx="1495080" cy="6454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Rectangle 92"/>
              <p:cNvSpPr/>
              <p:nvPr/>
            </p:nvSpPr>
            <p:spPr>
              <a:xfrm>
                <a:off x="5538960" y="5320440"/>
                <a:ext cx="1495080" cy="5601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Group 93"/>
            <p:cNvGrpSpPr/>
            <p:nvPr/>
          </p:nvGrpSpPr>
          <p:grpSpPr>
            <a:xfrm>
              <a:off x="7210440" y="5279760"/>
              <a:ext cx="1523880" cy="645840"/>
              <a:chOff x="7210440" y="5279760"/>
              <a:chExt cx="1523880" cy="645840"/>
            </a:xfrm>
          </p:grpSpPr>
          <p:sp>
            <p:nvSpPr>
              <p:cNvPr id="1345" name="AutoShape 94"/>
              <p:cNvSpPr/>
              <p:nvPr/>
            </p:nvSpPr>
            <p:spPr>
              <a:xfrm>
                <a:off x="7213680" y="5279760"/>
                <a:ext cx="15206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Rectangle 95"/>
              <p:cNvSpPr/>
              <p:nvPr/>
            </p:nvSpPr>
            <p:spPr>
              <a:xfrm>
                <a:off x="7210440" y="5323320"/>
                <a:ext cx="15206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Group 97"/>
            <p:cNvGrpSpPr/>
            <p:nvPr/>
          </p:nvGrpSpPr>
          <p:grpSpPr>
            <a:xfrm>
              <a:off x="1641600" y="2603520"/>
              <a:ext cx="3719520" cy="466560"/>
              <a:chOff x="1641600" y="2603520"/>
              <a:chExt cx="3719520" cy="466560"/>
            </a:xfrm>
          </p:grpSpPr>
          <p:sp>
            <p:nvSpPr>
              <p:cNvPr id="1348" name="Line 43"/>
              <p:cNvSpPr/>
              <p:nvPr/>
            </p:nvSpPr>
            <p:spPr>
              <a:xfrm>
                <a:off x="1660680" y="2838240"/>
                <a:ext cx="370044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Line 44"/>
              <p:cNvSpPr/>
              <p:nvPr/>
            </p:nvSpPr>
            <p:spPr>
              <a:xfrm>
                <a:off x="1641600" y="280980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Line 72"/>
              <p:cNvSpPr/>
              <p:nvPr/>
            </p:nvSpPr>
            <p:spPr>
              <a:xfrm>
                <a:off x="3467160" y="2603520"/>
                <a:ext cx="144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Line 96"/>
              <p:cNvSpPr/>
              <p:nvPr/>
            </p:nvSpPr>
            <p:spPr>
              <a:xfrm>
                <a:off x="5340240" y="2813040"/>
                <a:ext cx="180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2" name="Group 98"/>
            <p:cNvGrpSpPr/>
            <p:nvPr/>
          </p:nvGrpSpPr>
          <p:grpSpPr>
            <a:xfrm>
              <a:off x="3600360" y="3746520"/>
              <a:ext cx="3531960" cy="466560"/>
              <a:chOff x="3600360" y="3746520"/>
              <a:chExt cx="3531960" cy="466560"/>
            </a:xfrm>
          </p:grpSpPr>
          <p:sp>
            <p:nvSpPr>
              <p:cNvPr id="1353" name="Line 99"/>
              <p:cNvSpPr/>
              <p:nvPr/>
            </p:nvSpPr>
            <p:spPr>
              <a:xfrm>
                <a:off x="3618360" y="3981240"/>
                <a:ext cx="35139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Line 100"/>
              <p:cNvSpPr/>
              <p:nvPr/>
            </p:nvSpPr>
            <p:spPr>
              <a:xfrm>
                <a:off x="3600360" y="3952800"/>
                <a:ext cx="108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Line 101"/>
              <p:cNvSpPr/>
              <p:nvPr/>
            </p:nvSpPr>
            <p:spPr>
              <a:xfrm>
                <a:off x="5333760" y="3746520"/>
                <a:ext cx="108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Line 102"/>
              <p:cNvSpPr/>
              <p:nvPr/>
            </p:nvSpPr>
            <p:spPr>
              <a:xfrm>
                <a:off x="7112520" y="395604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7" name="Group 103"/>
            <p:cNvGrpSpPr/>
            <p:nvPr/>
          </p:nvGrpSpPr>
          <p:grpSpPr>
            <a:xfrm>
              <a:off x="6145200" y="4813200"/>
              <a:ext cx="1965240" cy="466560"/>
              <a:chOff x="6145200" y="4813200"/>
              <a:chExt cx="1965240" cy="466560"/>
            </a:xfrm>
          </p:grpSpPr>
          <p:sp>
            <p:nvSpPr>
              <p:cNvPr id="1358" name="Line 104"/>
              <p:cNvSpPr/>
              <p:nvPr/>
            </p:nvSpPr>
            <p:spPr>
              <a:xfrm>
                <a:off x="6155280" y="5047920"/>
                <a:ext cx="19551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Line 105"/>
              <p:cNvSpPr/>
              <p:nvPr/>
            </p:nvSpPr>
            <p:spPr>
              <a:xfrm>
                <a:off x="6145200" y="501948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Line 106"/>
              <p:cNvSpPr/>
              <p:nvPr/>
            </p:nvSpPr>
            <p:spPr>
              <a:xfrm>
                <a:off x="7109640" y="481320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Line 107"/>
              <p:cNvSpPr/>
              <p:nvPr/>
            </p:nvSpPr>
            <p:spPr>
              <a:xfrm>
                <a:off x="809928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Group 108"/>
            <p:cNvGrpSpPr/>
            <p:nvPr/>
          </p:nvGrpSpPr>
          <p:grpSpPr>
            <a:xfrm>
              <a:off x="2616120" y="4816440"/>
              <a:ext cx="1965600" cy="466560"/>
              <a:chOff x="2616120" y="4816440"/>
              <a:chExt cx="1965600" cy="466560"/>
            </a:xfrm>
          </p:grpSpPr>
          <p:sp>
            <p:nvSpPr>
              <p:cNvPr id="1363" name="Line 109"/>
              <p:cNvSpPr/>
              <p:nvPr/>
            </p:nvSpPr>
            <p:spPr>
              <a:xfrm>
                <a:off x="2626200" y="5051160"/>
                <a:ext cx="19555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Line 110"/>
              <p:cNvSpPr/>
              <p:nvPr/>
            </p:nvSpPr>
            <p:spPr>
              <a:xfrm>
                <a:off x="261612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Line 111"/>
              <p:cNvSpPr/>
              <p:nvPr/>
            </p:nvSpPr>
            <p:spPr>
              <a:xfrm>
                <a:off x="3580920" y="481644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Line 112"/>
              <p:cNvSpPr/>
              <p:nvPr/>
            </p:nvSpPr>
            <p:spPr>
              <a:xfrm>
                <a:off x="4570560" y="502596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67" name="TextBox 54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3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37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71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7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76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7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9" name="그룹 37"/>
          <p:cNvGrpSpPr/>
          <p:nvPr/>
        </p:nvGrpSpPr>
        <p:grpSpPr>
          <a:xfrm>
            <a:off x="357120" y="1857240"/>
            <a:ext cx="8286840" cy="4000680"/>
            <a:chOff x="357120" y="1857240"/>
            <a:chExt cx="8286840" cy="4000680"/>
          </a:xfrm>
        </p:grpSpPr>
        <p:grpSp>
          <p:nvGrpSpPr>
            <p:cNvPr id="1380" name="그룹 91"/>
            <p:cNvGrpSpPr/>
            <p:nvPr/>
          </p:nvGrpSpPr>
          <p:grpSpPr>
            <a:xfrm>
              <a:off x="357120" y="1857240"/>
              <a:ext cx="8286840" cy="4000680"/>
              <a:chOff x="357120" y="1857240"/>
              <a:chExt cx="8286840" cy="4000680"/>
            </a:xfrm>
          </p:grpSpPr>
          <p:pic>
            <p:nvPicPr>
              <p:cNvPr id="1381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3715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382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383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4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5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6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그룹 52"/>
          <p:cNvGrpSpPr/>
          <p:nvPr/>
        </p:nvGrpSpPr>
        <p:grpSpPr>
          <a:xfrm>
            <a:off x="1008000" y="2571840"/>
            <a:ext cx="7729560" cy="3057120"/>
            <a:chOff x="1008000" y="2571840"/>
            <a:chExt cx="7729560" cy="3057120"/>
          </a:xfrm>
        </p:grpSpPr>
        <p:grpSp>
          <p:nvGrpSpPr>
            <p:cNvPr id="1388" name="그룹 142"/>
            <p:cNvGrpSpPr/>
            <p:nvPr/>
          </p:nvGrpSpPr>
          <p:grpSpPr>
            <a:xfrm>
              <a:off x="1008000" y="2571840"/>
              <a:ext cx="1919880" cy="505440"/>
              <a:chOff x="1008000" y="2571840"/>
              <a:chExt cx="1919880" cy="505440"/>
            </a:xfrm>
          </p:grpSpPr>
          <p:grpSp>
            <p:nvGrpSpPr>
              <p:cNvPr id="1389" name="그룹 97"/>
              <p:cNvGrpSpPr/>
              <p:nvPr/>
            </p:nvGrpSpPr>
            <p:grpSpPr>
              <a:xfrm>
                <a:off x="1008000" y="2630160"/>
                <a:ext cx="295200" cy="338040"/>
                <a:chOff x="1008000" y="2630160"/>
                <a:chExt cx="295200" cy="338040"/>
              </a:xfrm>
            </p:grpSpPr>
            <p:pic>
              <p:nvPicPr>
                <p:cNvPr id="1390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87040"/>
                  <a:ext cx="2818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1" name="TextBox 146"/>
                <p:cNvSpPr/>
                <p:nvPr/>
              </p:nvSpPr>
              <p:spPr>
                <a:xfrm>
                  <a:off x="1008000" y="26301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2" name="직사각형 115"/>
              <p:cNvSpPr/>
              <p:nvPr/>
            </p:nvSpPr>
            <p:spPr>
              <a:xfrm>
                <a:off x="1242720" y="2571840"/>
                <a:ext cx="168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hap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3" name="직선 연결선 109"/>
            <p:cNvSpPr/>
            <p:nvPr/>
          </p:nvSpPr>
          <p:spPr>
            <a:xfrm>
              <a:off x="450036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4" name="그룹 114"/>
            <p:cNvGrpSpPr/>
            <p:nvPr/>
          </p:nvGrpSpPr>
          <p:grpSpPr>
            <a:xfrm>
              <a:off x="1377720" y="2928960"/>
              <a:ext cx="7359840" cy="2700000"/>
              <a:chOff x="1377720" y="2928960"/>
              <a:chExt cx="7359840" cy="2700000"/>
            </a:xfrm>
          </p:grpSpPr>
          <p:sp>
            <p:nvSpPr>
              <p:cNvPr id="1395" name="직사각형 37"/>
              <p:cNvSpPr/>
              <p:nvPr/>
            </p:nvSpPr>
            <p:spPr>
              <a:xfrm>
                <a:off x="1564200" y="2928960"/>
                <a:ext cx="7173360" cy="270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목표행동을 점진적으로 형성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은 차별강화와 점진적 접근으로 이루어져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반응에는 강화를 주고 어떤 반응에는 강화를 주지 않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점진적 접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행동에 근접하는 행동에만 강화를 주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잡한 행동을 단계적으로 형성하고자 할 경우 적합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6" name="타원 112"/>
              <p:cNvGrpSpPr/>
              <p:nvPr/>
            </p:nvGrpSpPr>
            <p:grpSpPr>
              <a:xfrm>
                <a:off x="1377720" y="3169800"/>
                <a:ext cx="223200" cy="231480"/>
                <a:chOff x="1377720" y="3169800"/>
                <a:chExt cx="223200" cy="231480"/>
              </a:xfrm>
            </p:grpSpPr>
            <p:pic>
              <p:nvPicPr>
                <p:cNvPr id="1397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1698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8" name=""/>
                <p:cNvSpPr/>
                <p:nvPr/>
              </p:nvSpPr>
              <p:spPr>
                <a:xfrm rot="10800000">
                  <a:off x="1458000" y="3228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9" name="타원 113"/>
              <p:cNvGrpSpPr/>
              <p:nvPr/>
            </p:nvGrpSpPr>
            <p:grpSpPr>
              <a:xfrm>
                <a:off x="1377720" y="3791520"/>
                <a:ext cx="223200" cy="231480"/>
                <a:chOff x="1377720" y="3791520"/>
                <a:chExt cx="223200" cy="231480"/>
              </a:xfrm>
            </p:grpSpPr>
            <p:pic>
              <p:nvPicPr>
                <p:cNvPr id="1400" name="타원 11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7915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1" name=""/>
                <p:cNvSpPr/>
                <p:nvPr/>
              </p:nvSpPr>
              <p:spPr>
                <a:xfrm rot="10800000">
                  <a:off x="1458000" y="3845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2" name="타원 119"/>
              <p:cNvGrpSpPr/>
              <p:nvPr/>
            </p:nvGrpSpPr>
            <p:grpSpPr>
              <a:xfrm>
                <a:off x="1377720" y="5242680"/>
                <a:ext cx="223200" cy="231480"/>
                <a:chOff x="1377720" y="5242680"/>
                <a:chExt cx="223200" cy="231480"/>
              </a:xfrm>
            </p:grpSpPr>
            <p:pic>
              <p:nvPicPr>
                <p:cNvPr id="1403" name="타원 119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5242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4" name=""/>
                <p:cNvSpPr/>
                <p:nvPr/>
              </p:nvSpPr>
              <p:spPr>
                <a:xfrm rot="10800000">
                  <a:off x="1458000" y="53013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5" name="타원 120"/>
              <p:cNvGrpSpPr/>
              <p:nvPr/>
            </p:nvGrpSpPr>
            <p:grpSpPr>
              <a:xfrm>
                <a:off x="1540800" y="4291560"/>
                <a:ext cx="229320" cy="231480"/>
                <a:chOff x="1540800" y="4291560"/>
                <a:chExt cx="229320" cy="231480"/>
              </a:xfrm>
            </p:grpSpPr>
            <p:pic>
              <p:nvPicPr>
                <p:cNvPr id="1406" name="타원 12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540800" y="42915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7" name=""/>
                <p:cNvSpPr/>
                <p:nvPr/>
              </p:nvSpPr>
              <p:spPr>
                <a:xfrm rot="10800000">
                  <a:off x="1623600" y="4345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8" name="타원 121"/>
              <p:cNvGrpSpPr/>
              <p:nvPr/>
            </p:nvGrpSpPr>
            <p:grpSpPr>
              <a:xfrm>
                <a:off x="1540800" y="4742640"/>
                <a:ext cx="229320" cy="231480"/>
                <a:chOff x="1540800" y="4742640"/>
                <a:chExt cx="229320" cy="231480"/>
              </a:xfrm>
            </p:grpSpPr>
            <p:pic>
              <p:nvPicPr>
                <p:cNvPr id="1409" name="타원 12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0800" y="47426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0" name=""/>
                <p:cNvSpPr/>
                <p:nvPr/>
              </p:nvSpPr>
              <p:spPr>
                <a:xfrm rot="10800000">
                  <a:off x="1623600" y="48009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11" name="슬라이드 번호 개체 틀 32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BD45D-F272-4FDC-9CBA-2768F092812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2" name="TextBox 33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15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20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22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3" name="그룹 37"/>
          <p:cNvGrpSpPr/>
          <p:nvPr/>
        </p:nvGrpSpPr>
        <p:grpSpPr>
          <a:xfrm>
            <a:off x="357120" y="1857240"/>
            <a:ext cx="8286840" cy="4500720"/>
            <a:chOff x="357120" y="1857240"/>
            <a:chExt cx="8286840" cy="4500720"/>
          </a:xfrm>
        </p:grpSpPr>
        <p:grpSp>
          <p:nvGrpSpPr>
            <p:cNvPr id="1424" name="그룹 91"/>
            <p:cNvGrpSpPr/>
            <p:nvPr/>
          </p:nvGrpSpPr>
          <p:grpSpPr>
            <a:xfrm>
              <a:off x="357120" y="1857240"/>
              <a:ext cx="8286840" cy="4500720"/>
              <a:chOff x="357120" y="1857240"/>
              <a:chExt cx="8286840" cy="4500720"/>
            </a:xfrm>
          </p:grpSpPr>
          <p:pic>
            <p:nvPicPr>
              <p:cNvPr id="1425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26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27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8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9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0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1" name="그룹 52"/>
          <p:cNvGrpSpPr/>
          <p:nvPr/>
        </p:nvGrpSpPr>
        <p:grpSpPr>
          <a:xfrm>
            <a:off x="1012320" y="2576520"/>
            <a:ext cx="7725240" cy="999720"/>
            <a:chOff x="1012320" y="2576520"/>
            <a:chExt cx="7725240" cy="999720"/>
          </a:xfrm>
        </p:grpSpPr>
        <p:grpSp>
          <p:nvGrpSpPr>
            <p:cNvPr id="1432" name="그룹 142"/>
            <p:cNvGrpSpPr/>
            <p:nvPr/>
          </p:nvGrpSpPr>
          <p:grpSpPr>
            <a:xfrm>
              <a:off x="1012320" y="2576520"/>
              <a:ext cx="2606040" cy="505440"/>
              <a:chOff x="1012320" y="2576520"/>
              <a:chExt cx="2606040" cy="505440"/>
            </a:xfrm>
          </p:grpSpPr>
          <p:grpSp>
            <p:nvGrpSpPr>
              <p:cNvPr id="1433" name="그룹 97"/>
              <p:cNvGrpSpPr/>
              <p:nvPr/>
            </p:nvGrpSpPr>
            <p:grpSpPr>
              <a:xfrm>
                <a:off x="1012320" y="2634480"/>
                <a:ext cx="305640" cy="338760"/>
                <a:chOff x="1012320" y="2634480"/>
                <a:chExt cx="305640" cy="338760"/>
              </a:xfrm>
            </p:grpSpPr>
            <p:pic>
              <p:nvPicPr>
                <p:cNvPr id="1434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92800"/>
                  <a:ext cx="286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5" name="TextBox 146"/>
                <p:cNvSpPr/>
                <p:nvPr/>
              </p:nvSpPr>
              <p:spPr>
                <a:xfrm>
                  <a:off x="1012320" y="2634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6" name="직사각형 115"/>
              <p:cNvSpPr/>
              <p:nvPr/>
            </p:nvSpPr>
            <p:spPr>
              <a:xfrm>
                <a:off x="1243440" y="2576520"/>
                <a:ext cx="237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경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oke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conom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7" name="직선 연결선 109"/>
            <p:cNvSpPr/>
            <p:nvPr/>
          </p:nvSpPr>
          <p:spPr>
            <a:xfrm>
              <a:off x="4500360" y="2862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8" name="그룹 114"/>
            <p:cNvGrpSpPr/>
            <p:nvPr/>
          </p:nvGrpSpPr>
          <p:grpSpPr>
            <a:xfrm>
              <a:off x="1377720" y="2933640"/>
              <a:ext cx="7359840" cy="642600"/>
              <a:chOff x="1377720" y="2933640"/>
              <a:chExt cx="7359840" cy="642600"/>
            </a:xfrm>
          </p:grpSpPr>
          <p:sp>
            <p:nvSpPr>
              <p:cNvPr id="1439" name="직사각형 37"/>
              <p:cNvSpPr/>
              <p:nvPr/>
            </p:nvSpPr>
            <p:spPr>
              <a:xfrm>
                <a:off x="1564200" y="2933640"/>
                <a:ext cx="7173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바람직한 반응의 확률을 증가시키려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0" name="타원 112"/>
              <p:cNvGrpSpPr/>
              <p:nvPr/>
            </p:nvGrpSpPr>
            <p:grpSpPr>
              <a:xfrm>
                <a:off x="1377720" y="3224880"/>
                <a:ext cx="223200" cy="231840"/>
                <a:chOff x="1377720" y="3224880"/>
                <a:chExt cx="223200" cy="231840"/>
              </a:xfrm>
            </p:grpSpPr>
            <p:pic>
              <p:nvPicPr>
                <p:cNvPr id="1441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224880"/>
                  <a:ext cx="22320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2" name=""/>
                <p:cNvSpPr/>
                <p:nvPr/>
              </p:nvSpPr>
              <p:spPr>
                <a:xfrm rot="10800000">
                  <a:off x="1458000" y="3278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43" name="그룹 52"/>
          <p:cNvGrpSpPr/>
          <p:nvPr/>
        </p:nvGrpSpPr>
        <p:grpSpPr>
          <a:xfrm>
            <a:off x="1017720" y="3786120"/>
            <a:ext cx="7719840" cy="2097000"/>
            <a:chOff x="1017720" y="3786120"/>
            <a:chExt cx="7719840" cy="2097000"/>
          </a:xfrm>
        </p:grpSpPr>
        <p:grpSp>
          <p:nvGrpSpPr>
            <p:cNvPr id="1444" name="그룹 142"/>
            <p:cNvGrpSpPr/>
            <p:nvPr/>
          </p:nvGrpSpPr>
          <p:grpSpPr>
            <a:xfrm>
              <a:off x="1017720" y="3786120"/>
              <a:ext cx="3192840" cy="505440"/>
              <a:chOff x="1017720" y="3786120"/>
              <a:chExt cx="3192840" cy="505440"/>
            </a:xfrm>
          </p:grpSpPr>
          <p:grpSp>
            <p:nvGrpSpPr>
              <p:cNvPr id="1445" name="그룹 97"/>
              <p:cNvGrpSpPr/>
              <p:nvPr/>
            </p:nvGrpSpPr>
            <p:grpSpPr>
              <a:xfrm>
                <a:off x="1017720" y="3844080"/>
                <a:ext cx="283680" cy="338760"/>
                <a:chOff x="1017720" y="3844080"/>
                <a:chExt cx="283680" cy="338760"/>
              </a:xfrm>
            </p:grpSpPr>
            <p:pic>
              <p:nvPicPr>
                <p:cNvPr id="1446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17720" y="3900240"/>
                  <a:ext cx="28368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7" name="TextBox 146"/>
                <p:cNvSpPr/>
                <p:nvPr/>
              </p:nvSpPr>
              <p:spPr>
                <a:xfrm>
                  <a:off x="1018080" y="3844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8" name="직사각형 54"/>
              <p:cNvSpPr/>
              <p:nvPr/>
            </p:nvSpPr>
            <p:spPr>
              <a:xfrm>
                <a:off x="1225800" y="3786120"/>
                <a:ext cx="298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erforma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ontra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9" name="직선 연결선 48"/>
            <p:cNvSpPr/>
            <p:nvPr/>
          </p:nvSpPr>
          <p:spPr>
            <a:xfrm>
              <a:off x="4500360" y="4071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0" name="그룹 114"/>
            <p:cNvGrpSpPr/>
            <p:nvPr/>
          </p:nvGrpSpPr>
          <p:grpSpPr>
            <a:xfrm>
              <a:off x="1377720" y="4143240"/>
              <a:ext cx="7359840" cy="1739880"/>
              <a:chOff x="1377720" y="4143240"/>
              <a:chExt cx="7359840" cy="1739880"/>
            </a:xfrm>
          </p:grpSpPr>
          <p:sp>
            <p:nvSpPr>
              <p:cNvPr id="1451" name="직사각형 37"/>
              <p:cNvSpPr/>
              <p:nvPr/>
            </p:nvSpPr>
            <p:spPr>
              <a:xfrm>
                <a:off x="1564200" y="4143240"/>
                <a:ext cx="717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행동을 하면 다른 사람이 강화를 제공해야 한다는 것을 명시한 계약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수정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을 할 때 목표행동은 구체적이어야 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적으로 근접해야 하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소 어렵지만 달성할 수 있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2" name="타원 51"/>
              <p:cNvGrpSpPr/>
              <p:nvPr/>
            </p:nvGrpSpPr>
            <p:grpSpPr>
              <a:xfrm>
                <a:off x="1377720" y="4407120"/>
                <a:ext cx="223200" cy="231480"/>
                <a:chOff x="1377720" y="4407120"/>
                <a:chExt cx="223200" cy="231480"/>
              </a:xfrm>
            </p:grpSpPr>
            <p:pic>
              <p:nvPicPr>
                <p:cNvPr id="1453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44071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4" name=""/>
                <p:cNvSpPr/>
                <p:nvPr/>
              </p:nvSpPr>
              <p:spPr>
                <a:xfrm rot="10800000">
                  <a:off x="1458000" y="4465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5" name="타원 44"/>
              <p:cNvGrpSpPr/>
              <p:nvPr/>
            </p:nvGrpSpPr>
            <p:grpSpPr>
              <a:xfrm>
                <a:off x="1377720" y="5218200"/>
                <a:ext cx="223200" cy="231480"/>
                <a:chOff x="1377720" y="5218200"/>
                <a:chExt cx="223200" cy="231480"/>
              </a:xfrm>
            </p:grpSpPr>
            <p:pic>
              <p:nvPicPr>
                <p:cNvPr id="1456" name="타원 4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7" name=""/>
                <p:cNvSpPr/>
                <p:nvPr/>
              </p:nvSpPr>
              <p:spPr>
                <a:xfrm rot="10800000">
                  <a:off x="1458000" y="52776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58" name="슬라이드 번호 개체 틀 3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E9F79-5EEF-4B5C-BB5D-896BD72ED57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TextBox 40" descr=""/>
          <p:cNvPicPr/>
          <p:nvPr/>
        </p:nvPicPr>
        <p:blipFill>
          <a:blip r:embed="rId9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0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6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62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7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471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472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73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7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5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6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7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그룹 52"/>
          <p:cNvGrpSpPr/>
          <p:nvPr/>
        </p:nvGrpSpPr>
        <p:grpSpPr>
          <a:xfrm>
            <a:off x="920160" y="2505240"/>
            <a:ext cx="7730280" cy="1274040"/>
            <a:chOff x="920160" y="2505240"/>
            <a:chExt cx="7730280" cy="1274040"/>
          </a:xfrm>
        </p:grpSpPr>
        <p:grpSp>
          <p:nvGrpSpPr>
            <p:cNvPr id="1479" name="그룹 142"/>
            <p:cNvGrpSpPr/>
            <p:nvPr/>
          </p:nvGrpSpPr>
          <p:grpSpPr>
            <a:xfrm>
              <a:off x="920160" y="2505240"/>
              <a:ext cx="1748880" cy="505440"/>
              <a:chOff x="920160" y="2505240"/>
              <a:chExt cx="1748880" cy="505440"/>
            </a:xfrm>
          </p:grpSpPr>
          <p:grpSp>
            <p:nvGrpSpPr>
              <p:cNvPr id="1480" name="그룹 97"/>
              <p:cNvGrpSpPr/>
              <p:nvPr/>
            </p:nvGrpSpPr>
            <p:grpSpPr>
              <a:xfrm>
                <a:off x="920160" y="2563560"/>
                <a:ext cx="295200" cy="338760"/>
                <a:chOff x="920160" y="2563560"/>
                <a:chExt cx="295200" cy="338760"/>
              </a:xfrm>
            </p:grpSpPr>
            <p:pic>
              <p:nvPicPr>
                <p:cNvPr id="1481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400" y="2620440"/>
                  <a:ext cx="28044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2" name="TextBox 146"/>
                <p:cNvSpPr/>
                <p:nvPr/>
              </p:nvSpPr>
              <p:spPr>
                <a:xfrm>
                  <a:off x="920160" y="2563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3" name="직사각형 115"/>
              <p:cNvSpPr/>
              <p:nvPr/>
            </p:nvSpPr>
            <p:spPr>
              <a:xfrm>
                <a:off x="1096920" y="2505240"/>
                <a:ext cx="157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소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tinc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4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5" name="그룹 114"/>
            <p:cNvGrpSpPr/>
            <p:nvPr/>
          </p:nvGrpSpPr>
          <p:grpSpPr>
            <a:xfrm>
              <a:off x="1290600" y="2862360"/>
              <a:ext cx="7359840" cy="916920"/>
              <a:chOff x="1290600" y="2862360"/>
              <a:chExt cx="7359840" cy="916920"/>
            </a:xfrm>
          </p:grpSpPr>
          <p:sp>
            <p:nvSpPr>
              <p:cNvPr id="1486" name="직사각형 37"/>
              <p:cNvSpPr/>
              <p:nvPr/>
            </p:nvSpPr>
            <p:spPr>
              <a:xfrm>
                <a:off x="1474920" y="2862360"/>
                <a:ext cx="7175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반응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할 때 강화를 주지 않아서 반응의 확률이나 강도를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7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488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9" name=""/>
                <p:cNvSpPr/>
                <p:nvPr/>
              </p:nvSpPr>
              <p:spPr>
                <a:xfrm rot="10800000">
                  <a:off x="1369080" y="3207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0" name="그룹 52"/>
          <p:cNvGrpSpPr/>
          <p:nvPr/>
        </p:nvGrpSpPr>
        <p:grpSpPr>
          <a:xfrm>
            <a:off x="925200" y="3962520"/>
            <a:ext cx="7774200" cy="1000080"/>
            <a:chOff x="925200" y="3962520"/>
            <a:chExt cx="7774200" cy="1000080"/>
          </a:xfrm>
        </p:grpSpPr>
        <p:grpSp>
          <p:nvGrpSpPr>
            <p:cNvPr id="1491" name="그룹 142"/>
            <p:cNvGrpSpPr/>
            <p:nvPr/>
          </p:nvGrpSpPr>
          <p:grpSpPr>
            <a:xfrm>
              <a:off x="925200" y="3962520"/>
              <a:ext cx="3553920" cy="505440"/>
              <a:chOff x="925200" y="3962520"/>
              <a:chExt cx="3553920" cy="505440"/>
            </a:xfrm>
          </p:grpSpPr>
          <p:grpSp>
            <p:nvGrpSpPr>
              <p:cNvPr id="1492" name="그룹 97"/>
              <p:cNvGrpSpPr/>
              <p:nvPr/>
            </p:nvGrpSpPr>
            <p:grpSpPr>
              <a:xfrm>
                <a:off x="925200" y="4020840"/>
                <a:ext cx="305640" cy="339120"/>
                <a:chOff x="925200" y="4020840"/>
                <a:chExt cx="305640" cy="339120"/>
              </a:xfrm>
            </p:grpSpPr>
            <p:pic>
              <p:nvPicPr>
                <p:cNvPr id="1493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4077360"/>
                  <a:ext cx="28656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4" name="TextBox 146"/>
                <p:cNvSpPr/>
                <p:nvPr/>
              </p:nvSpPr>
              <p:spPr>
                <a:xfrm>
                  <a:off x="925200" y="4020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5" name="직사각형 54"/>
              <p:cNvSpPr/>
              <p:nvPr/>
            </p:nvSpPr>
            <p:spPr>
              <a:xfrm>
                <a:off x="1110600" y="3962520"/>
                <a:ext cx="3368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differenti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reinforcemen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6" name="직선 연결선 48"/>
            <p:cNvSpPr/>
            <p:nvPr/>
          </p:nvSpPr>
          <p:spPr>
            <a:xfrm>
              <a:off x="4643280" y="42480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7" name="그룹 114"/>
            <p:cNvGrpSpPr/>
            <p:nvPr/>
          </p:nvGrpSpPr>
          <p:grpSpPr>
            <a:xfrm>
              <a:off x="1290600" y="4320000"/>
              <a:ext cx="7408800" cy="642600"/>
              <a:chOff x="1290600" y="4320000"/>
              <a:chExt cx="7408800" cy="642600"/>
            </a:xfrm>
          </p:grpSpPr>
          <p:sp>
            <p:nvSpPr>
              <p:cNvPr id="1498" name="직사각형 37"/>
              <p:cNvSpPr/>
              <p:nvPr/>
            </p:nvSpPr>
            <p:spPr>
              <a:xfrm>
                <a:off x="1474920" y="43200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 동안 바람직하지 않은 반응을 하지 않을 때 강화를 주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9" name="타원 51"/>
              <p:cNvGrpSpPr/>
              <p:nvPr/>
            </p:nvGrpSpPr>
            <p:grpSpPr>
              <a:xfrm>
                <a:off x="1290600" y="4584240"/>
                <a:ext cx="223560" cy="231480"/>
                <a:chOff x="1290600" y="4584240"/>
                <a:chExt cx="223560" cy="231480"/>
              </a:xfrm>
            </p:grpSpPr>
            <p:pic>
              <p:nvPicPr>
                <p:cNvPr id="1500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584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1" name=""/>
                <p:cNvSpPr/>
                <p:nvPr/>
              </p:nvSpPr>
              <p:spPr>
                <a:xfrm rot="10800000">
                  <a:off x="1369080" y="4642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2" name="그룹 52"/>
          <p:cNvGrpSpPr/>
          <p:nvPr/>
        </p:nvGrpSpPr>
        <p:grpSpPr>
          <a:xfrm>
            <a:off x="929880" y="5143680"/>
            <a:ext cx="7769520" cy="999720"/>
            <a:chOff x="929880" y="5143680"/>
            <a:chExt cx="7769520" cy="999720"/>
          </a:xfrm>
        </p:grpSpPr>
        <p:grpSp>
          <p:nvGrpSpPr>
            <p:cNvPr id="1503" name="그룹 142"/>
            <p:cNvGrpSpPr/>
            <p:nvPr/>
          </p:nvGrpSpPr>
          <p:grpSpPr>
            <a:xfrm>
              <a:off x="929880" y="5143680"/>
              <a:ext cx="1416960" cy="505440"/>
              <a:chOff x="929880" y="5143680"/>
              <a:chExt cx="1416960" cy="505440"/>
            </a:xfrm>
          </p:grpSpPr>
          <p:grpSp>
            <p:nvGrpSpPr>
              <p:cNvPr id="1504" name="그룹 97"/>
              <p:cNvGrpSpPr/>
              <p:nvPr/>
            </p:nvGrpSpPr>
            <p:grpSpPr>
              <a:xfrm>
                <a:off x="929880" y="5202000"/>
                <a:ext cx="284400" cy="338760"/>
                <a:chOff x="929880" y="5202000"/>
                <a:chExt cx="284400" cy="338760"/>
              </a:xfrm>
            </p:grpSpPr>
            <p:pic>
              <p:nvPicPr>
                <p:cNvPr id="15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2400" y="5259960"/>
                  <a:ext cx="2818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6" name="TextBox 146"/>
                <p:cNvSpPr/>
                <p:nvPr/>
              </p:nvSpPr>
              <p:spPr>
                <a:xfrm>
                  <a:off x="929880" y="520200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7" name="직사각형 49"/>
              <p:cNvSpPr/>
              <p:nvPr/>
            </p:nvSpPr>
            <p:spPr>
              <a:xfrm>
                <a:off x="1283760" y="5143680"/>
                <a:ext cx="1063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반반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8" name="직선 연결선 42"/>
            <p:cNvSpPr/>
            <p:nvPr/>
          </p:nvSpPr>
          <p:spPr>
            <a:xfrm>
              <a:off x="4643280" y="542916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9" name="그룹 114"/>
            <p:cNvGrpSpPr/>
            <p:nvPr/>
          </p:nvGrpSpPr>
          <p:grpSpPr>
            <a:xfrm>
              <a:off x="1290600" y="5500800"/>
              <a:ext cx="7408800" cy="642600"/>
              <a:chOff x="1290600" y="5500800"/>
              <a:chExt cx="7408800" cy="642600"/>
            </a:xfrm>
          </p:grpSpPr>
          <p:sp>
            <p:nvSpPr>
              <p:cNvPr id="1510" name="직사각형 37"/>
              <p:cNvSpPr/>
              <p:nvPr/>
            </p:nvSpPr>
            <p:spPr>
              <a:xfrm>
                <a:off x="1474920" y="55008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반응과 정반대가 되는 반응을 강화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1" name="타원 46"/>
              <p:cNvGrpSpPr/>
              <p:nvPr/>
            </p:nvGrpSpPr>
            <p:grpSpPr>
              <a:xfrm>
                <a:off x="1290600" y="5766840"/>
                <a:ext cx="223560" cy="231480"/>
                <a:chOff x="1290600" y="5766840"/>
                <a:chExt cx="223560" cy="231480"/>
              </a:xfrm>
            </p:grpSpPr>
            <p:pic>
              <p:nvPicPr>
                <p:cNvPr id="1512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7668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3" name=""/>
                <p:cNvSpPr/>
                <p:nvPr/>
              </p:nvSpPr>
              <p:spPr>
                <a:xfrm rot="10800000">
                  <a:off x="1369080" y="58226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14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1C2E1-88F2-4DD9-9B74-A1754A5F1C9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5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6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18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529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53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1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2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3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4" name="그룹 52"/>
          <p:cNvGrpSpPr/>
          <p:nvPr/>
        </p:nvGrpSpPr>
        <p:grpSpPr>
          <a:xfrm>
            <a:off x="924480" y="2505240"/>
            <a:ext cx="7725960" cy="999720"/>
            <a:chOff x="924480" y="2505240"/>
            <a:chExt cx="7725960" cy="999720"/>
          </a:xfrm>
        </p:grpSpPr>
        <p:grpSp>
          <p:nvGrpSpPr>
            <p:cNvPr id="1535" name="그룹 142"/>
            <p:cNvGrpSpPr/>
            <p:nvPr/>
          </p:nvGrpSpPr>
          <p:grpSpPr>
            <a:xfrm>
              <a:off x="924480" y="2505240"/>
              <a:ext cx="770040" cy="505440"/>
              <a:chOff x="924480" y="2505240"/>
              <a:chExt cx="770040" cy="505440"/>
            </a:xfrm>
          </p:grpSpPr>
          <p:grpSp>
            <p:nvGrpSpPr>
              <p:cNvPr id="1536" name="그룹 97"/>
              <p:cNvGrpSpPr/>
              <p:nvPr/>
            </p:nvGrpSpPr>
            <p:grpSpPr>
              <a:xfrm>
                <a:off x="924480" y="2563200"/>
                <a:ext cx="305640" cy="338040"/>
                <a:chOff x="924480" y="2563200"/>
                <a:chExt cx="305640" cy="338040"/>
              </a:xfrm>
            </p:grpSpPr>
            <p:pic>
              <p:nvPicPr>
                <p:cNvPr id="153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760" y="2620080"/>
                  <a:ext cx="28656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8" name="TextBox 146"/>
                <p:cNvSpPr/>
                <p:nvPr/>
              </p:nvSpPr>
              <p:spPr>
                <a:xfrm>
                  <a:off x="924480" y="2563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9" name="직사각형 115"/>
              <p:cNvSpPr/>
              <p:nvPr/>
            </p:nvSpPr>
            <p:spPr>
              <a:xfrm>
                <a:off x="1180080" y="2505240"/>
                <a:ext cx="514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꾸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0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1" name="그룹 114"/>
            <p:cNvGrpSpPr/>
            <p:nvPr/>
          </p:nvGrpSpPr>
          <p:grpSpPr>
            <a:xfrm>
              <a:off x="1290600" y="2862360"/>
              <a:ext cx="7359840" cy="642600"/>
              <a:chOff x="1290600" y="2862360"/>
              <a:chExt cx="7359840" cy="642600"/>
            </a:xfrm>
          </p:grpSpPr>
          <p:sp>
            <p:nvSpPr>
              <p:cNvPr id="1542" name="직사각형 37"/>
              <p:cNvSpPr/>
              <p:nvPr/>
            </p:nvSpPr>
            <p:spPr>
              <a:xfrm>
                <a:off x="1474920" y="2862360"/>
                <a:ext cx="717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의 일종인 꾸중은 바람직하지 못한 행동을 억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3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544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5" name=""/>
                <p:cNvSpPr/>
                <p:nvPr/>
              </p:nvSpPr>
              <p:spPr>
                <a:xfrm rot="10800000">
                  <a:off x="1369080" y="3206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46" name="그룹 52"/>
          <p:cNvGrpSpPr/>
          <p:nvPr/>
        </p:nvGrpSpPr>
        <p:grpSpPr>
          <a:xfrm>
            <a:off x="920160" y="3657600"/>
            <a:ext cx="7779240" cy="999720"/>
            <a:chOff x="920160" y="3657600"/>
            <a:chExt cx="7779240" cy="999720"/>
          </a:xfrm>
        </p:grpSpPr>
        <p:grpSp>
          <p:nvGrpSpPr>
            <p:cNvPr id="1547" name="그룹 142"/>
            <p:cNvGrpSpPr/>
            <p:nvPr/>
          </p:nvGrpSpPr>
          <p:grpSpPr>
            <a:xfrm>
              <a:off x="920160" y="3657600"/>
              <a:ext cx="1630800" cy="505440"/>
              <a:chOff x="920160" y="3657600"/>
              <a:chExt cx="1630800" cy="505440"/>
            </a:xfrm>
          </p:grpSpPr>
          <p:grpSp>
            <p:nvGrpSpPr>
              <p:cNvPr id="1548" name="그룹 97"/>
              <p:cNvGrpSpPr/>
              <p:nvPr/>
            </p:nvGrpSpPr>
            <p:grpSpPr>
              <a:xfrm>
                <a:off x="920160" y="3715560"/>
                <a:ext cx="295200" cy="338040"/>
                <a:chOff x="920160" y="3715560"/>
                <a:chExt cx="295200" cy="338040"/>
              </a:xfrm>
            </p:grpSpPr>
            <p:pic>
              <p:nvPicPr>
                <p:cNvPr id="154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400" y="3772080"/>
                  <a:ext cx="28044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0" name="TextBox 146"/>
                <p:cNvSpPr/>
                <p:nvPr/>
              </p:nvSpPr>
              <p:spPr>
                <a:xfrm>
                  <a:off x="920160" y="3715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1" name="직사각형 54"/>
              <p:cNvSpPr/>
              <p:nvPr/>
            </p:nvSpPr>
            <p:spPr>
              <a:xfrm>
                <a:off x="1096200" y="3657600"/>
                <a:ext cx="145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atia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2" name="직선 연결선 48"/>
            <p:cNvSpPr/>
            <p:nvPr/>
          </p:nvSpPr>
          <p:spPr>
            <a:xfrm>
              <a:off x="4643280" y="394344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3" name="그룹 114"/>
            <p:cNvGrpSpPr/>
            <p:nvPr/>
          </p:nvGrpSpPr>
          <p:grpSpPr>
            <a:xfrm>
              <a:off x="1290600" y="4014720"/>
              <a:ext cx="7408800" cy="642600"/>
              <a:chOff x="1290600" y="4014720"/>
              <a:chExt cx="7408800" cy="642600"/>
            </a:xfrm>
          </p:grpSpPr>
          <p:sp>
            <p:nvSpPr>
              <p:cNvPr id="1554" name="직사각형 37"/>
              <p:cNvSpPr/>
              <p:nvPr/>
            </p:nvSpPr>
            <p:spPr>
              <a:xfrm>
                <a:off x="1474920" y="401472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행동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칠 때까지 반복하도록 하여 문제행동을 감소시키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5" name="타원 51"/>
              <p:cNvGrpSpPr/>
              <p:nvPr/>
            </p:nvGrpSpPr>
            <p:grpSpPr>
              <a:xfrm>
                <a:off x="1290600" y="4279320"/>
                <a:ext cx="223560" cy="231840"/>
                <a:chOff x="1290600" y="4279320"/>
                <a:chExt cx="223560" cy="231840"/>
              </a:xfrm>
            </p:grpSpPr>
            <p:pic>
              <p:nvPicPr>
                <p:cNvPr id="1556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27932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7" name=""/>
                <p:cNvSpPr/>
                <p:nvPr/>
              </p:nvSpPr>
              <p:spPr>
                <a:xfrm rot="10800000">
                  <a:off x="1369080" y="4336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58" name="그룹 52"/>
          <p:cNvGrpSpPr/>
          <p:nvPr/>
        </p:nvGrpSpPr>
        <p:grpSpPr>
          <a:xfrm>
            <a:off x="936720" y="4809960"/>
            <a:ext cx="7762680" cy="1279800"/>
            <a:chOff x="936720" y="4809960"/>
            <a:chExt cx="7762680" cy="1279800"/>
          </a:xfrm>
        </p:grpSpPr>
        <p:grpSp>
          <p:nvGrpSpPr>
            <p:cNvPr id="1559" name="그룹 142"/>
            <p:cNvGrpSpPr/>
            <p:nvPr/>
          </p:nvGrpSpPr>
          <p:grpSpPr>
            <a:xfrm>
              <a:off x="936720" y="4809960"/>
              <a:ext cx="1608120" cy="505440"/>
              <a:chOff x="936720" y="4809960"/>
              <a:chExt cx="1608120" cy="505440"/>
            </a:xfrm>
          </p:grpSpPr>
          <p:grpSp>
            <p:nvGrpSpPr>
              <p:cNvPr id="1560" name="그룹 97"/>
              <p:cNvGrpSpPr/>
              <p:nvPr/>
            </p:nvGrpSpPr>
            <p:grpSpPr>
              <a:xfrm>
                <a:off x="936720" y="4880880"/>
                <a:ext cx="274320" cy="337320"/>
                <a:chOff x="936720" y="4880880"/>
                <a:chExt cx="274320" cy="337320"/>
              </a:xfrm>
            </p:grpSpPr>
            <p:pic>
              <p:nvPicPr>
                <p:cNvPr id="1561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6720" y="4925160"/>
                  <a:ext cx="27432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2" name="TextBox 146"/>
                <p:cNvSpPr/>
                <p:nvPr/>
              </p:nvSpPr>
              <p:spPr>
                <a:xfrm>
                  <a:off x="950040" y="4880880"/>
                  <a:ext cx="250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3" name="직사각형 49"/>
              <p:cNvSpPr/>
              <p:nvPr/>
            </p:nvSpPr>
            <p:spPr>
              <a:xfrm>
                <a:off x="1099440" y="4809960"/>
                <a:ext cx="14454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격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ime-ou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4" name="직선 연결선 42"/>
            <p:cNvSpPr/>
            <p:nvPr/>
          </p:nvSpPr>
          <p:spPr>
            <a:xfrm>
              <a:off x="4643280" y="50958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5" name="그룹 114"/>
            <p:cNvGrpSpPr/>
            <p:nvPr/>
          </p:nvGrpSpPr>
          <p:grpSpPr>
            <a:xfrm>
              <a:off x="1290600" y="5310360"/>
              <a:ext cx="7408800" cy="779400"/>
              <a:chOff x="1290600" y="5310360"/>
              <a:chExt cx="7408800" cy="779400"/>
            </a:xfrm>
          </p:grpSpPr>
          <p:sp>
            <p:nvSpPr>
              <p:cNvPr id="1566" name="직사각형 37"/>
              <p:cNvSpPr/>
              <p:nvPr/>
            </p:nvSpPr>
            <p:spPr>
              <a:xfrm>
                <a:off x="1474920" y="5310360"/>
                <a:ext cx="7224480" cy="77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적 강화를 받을 수 있는 기회를 박탈하거나 강화를 받을 수 있는 장면에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방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7" name="타원 46"/>
              <p:cNvGrpSpPr/>
              <p:nvPr/>
            </p:nvGrpSpPr>
            <p:grpSpPr>
              <a:xfrm>
                <a:off x="1290600" y="5431320"/>
                <a:ext cx="223560" cy="231480"/>
                <a:chOff x="1290600" y="5431320"/>
                <a:chExt cx="223560" cy="231480"/>
              </a:xfrm>
            </p:grpSpPr>
            <p:pic>
              <p:nvPicPr>
                <p:cNvPr id="1568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43132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9" name=""/>
                <p:cNvSpPr/>
                <p:nvPr/>
              </p:nvSpPr>
              <p:spPr>
                <a:xfrm rot="10800000">
                  <a:off x="1369080" y="5488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0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E1675-5970-40C9-B510-08B9468A997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1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E094CBA4-F4B1-47F5-81F2-16DEB0855C5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3" name="Group 20"/>
          <p:cNvGrpSpPr/>
          <p:nvPr/>
        </p:nvGrpSpPr>
        <p:grpSpPr>
          <a:xfrm>
            <a:off x="601560" y="3714840"/>
            <a:ext cx="8111880" cy="801360"/>
            <a:chOff x="601560" y="3714840"/>
            <a:chExt cx="8111880" cy="801360"/>
          </a:xfrm>
        </p:grpSpPr>
        <p:sp>
          <p:nvSpPr>
            <p:cNvPr id="1574" name="Freeform 21"/>
            <p:cNvSpPr/>
            <p:nvPr/>
          </p:nvSpPr>
          <p:spPr>
            <a:xfrm>
              <a:off x="867240" y="4176360"/>
              <a:ext cx="758016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22"/>
            <p:cNvSpPr/>
            <p:nvPr/>
          </p:nvSpPr>
          <p:spPr>
            <a:xfrm>
              <a:off x="601560" y="3714840"/>
              <a:ext cx="8111880" cy="70308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노력과 능력의 향상에 대해 강화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Group 23"/>
          <p:cNvGrpSpPr/>
          <p:nvPr/>
        </p:nvGrpSpPr>
        <p:grpSpPr>
          <a:xfrm>
            <a:off x="614520" y="2714760"/>
            <a:ext cx="8113320" cy="776880"/>
            <a:chOff x="614520" y="2714760"/>
            <a:chExt cx="8113320" cy="776880"/>
          </a:xfrm>
        </p:grpSpPr>
        <p:sp>
          <p:nvSpPr>
            <p:cNvPr id="1577" name="Freeform 24"/>
            <p:cNvSpPr/>
            <p:nvPr/>
          </p:nvSpPr>
          <p:spPr>
            <a:xfrm>
              <a:off x="880200" y="3162240"/>
              <a:ext cx="7581600" cy="3294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25"/>
            <p:cNvSpPr/>
            <p:nvPr/>
          </p:nvSpPr>
          <p:spPr>
            <a:xfrm>
              <a:off x="614520" y="2714760"/>
              <a:ext cx="8113320" cy="68184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대 행동을 이끌어 내기 위한 환경적 선행자극을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Group 26"/>
          <p:cNvGrpSpPr/>
          <p:nvPr/>
        </p:nvGrpSpPr>
        <p:grpSpPr>
          <a:xfrm>
            <a:off x="627120" y="1571760"/>
            <a:ext cx="8086320" cy="986400"/>
            <a:chOff x="627120" y="1571760"/>
            <a:chExt cx="8086320" cy="986400"/>
          </a:xfrm>
        </p:grpSpPr>
        <p:sp>
          <p:nvSpPr>
            <p:cNvPr id="1580" name="Freeform 27"/>
            <p:cNvSpPr/>
            <p:nvPr/>
          </p:nvSpPr>
          <p:spPr>
            <a:xfrm>
              <a:off x="891720" y="2139840"/>
              <a:ext cx="7556400" cy="418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28"/>
            <p:cNvSpPr/>
            <p:nvPr/>
          </p:nvSpPr>
          <p:spPr>
            <a:xfrm>
              <a:off x="627120" y="1571760"/>
              <a:ext cx="8086320" cy="86544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을 존경하고 예의 바르게 대하며 교실과 학교에 대해 긍정적인 감정을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지도록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Group 29"/>
          <p:cNvGrpSpPr/>
          <p:nvPr/>
        </p:nvGrpSpPr>
        <p:grpSpPr>
          <a:xfrm>
            <a:off x="590400" y="4757760"/>
            <a:ext cx="8124480" cy="813960"/>
            <a:chOff x="590400" y="4757760"/>
            <a:chExt cx="8124480" cy="813960"/>
          </a:xfrm>
        </p:grpSpPr>
        <p:sp>
          <p:nvSpPr>
            <p:cNvPr id="1583" name="Freeform 30"/>
            <p:cNvSpPr/>
            <p:nvPr/>
          </p:nvSpPr>
          <p:spPr>
            <a:xfrm>
              <a:off x="856440" y="5226480"/>
              <a:ext cx="7592040" cy="3452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31"/>
            <p:cNvSpPr/>
            <p:nvPr/>
          </p:nvSpPr>
          <p:spPr>
            <a:xfrm>
              <a:off x="590400" y="4757760"/>
              <a:ext cx="8124480" cy="7138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수용할 수 있는 행동에 대한 정확한 기준을 마련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Group 32"/>
          <p:cNvGrpSpPr/>
          <p:nvPr/>
        </p:nvGrpSpPr>
        <p:grpSpPr>
          <a:xfrm>
            <a:off x="582480" y="5734080"/>
            <a:ext cx="8086320" cy="980640"/>
            <a:chOff x="582480" y="5734080"/>
            <a:chExt cx="8086320" cy="980640"/>
          </a:xfrm>
        </p:grpSpPr>
        <p:sp>
          <p:nvSpPr>
            <p:cNvPr id="1586" name="Freeform 33"/>
            <p:cNvSpPr/>
            <p:nvPr/>
          </p:nvSpPr>
          <p:spPr>
            <a:xfrm>
              <a:off x="847080" y="6298920"/>
              <a:ext cx="7556400" cy="415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34"/>
            <p:cNvSpPr/>
            <p:nvPr/>
          </p:nvSpPr>
          <p:spPr>
            <a:xfrm>
              <a:off x="582480" y="5734080"/>
              <a:ext cx="8086320" cy="86004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행동기준에 부합하는 행동을 했을 경우 나타날 긍정적인 결과를 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하고 강화인이 효과적이지 못할 경우 처벌을 사용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8" name="TextBox 21" descr=""/>
          <p:cNvPicPr/>
          <p:nvPr/>
        </p:nvPicPr>
        <p:blipFill>
          <a:blip r:embed="rId1"/>
          <a:stretch/>
        </p:blipFill>
        <p:spPr>
          <a:xfrm>
            <a:off x="5151600" y="506520"/>
            <a:ext cx="41083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9" name="TextBox 9" descr=""/>
          <p:cNvPicPr/>
          <p:nvPr/>
        </p:nvPicPr>
        <p:blipFill>
          <a:blip r:embed="rId1"/>
          <a:stretch/>
        </p:blipFill>
        <p:spPr>
          <a:xfrm>
            <a:off x="5005440" y="506520"/>
            <a:ext cx="3773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9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59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592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부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9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0" name="그룹 43"/>
          <p:cNvGrpSpPr/>
          <p:nvPr/>
        </p:nvGrpSpPr>
        <p:grpSpPr>
          <a:xfrm>
            <a:off x="571680" y="1876320"/>
            <a:ext cx="8072280" cy="2266920"/>
            <a:chOff x="571680" y="1876320"/>
            <a:chExt cx="8072280" cy="2266920"/>
          </a:xfrm>
        </p:grpSpPr>
        <p:pic>
          <p:nvPicPr>
            <p:cNvPr id="160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2124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02" name="직사각형 19"/>
            <p:cNvSpPr/>
            <p:nvPr/>
          </p:nvSpPr>
          <p:spPr>
            <a:xfrm>
              <a:off x="928800" y="1991880"/>
              <a:ext cx="76690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지침으로 활용함에 있어 비효과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기능을 설명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화인이 내재적 동기에 미치는 영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동기를 낯출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과 교수에 대한 철학적 입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그 자체에 대한 즐거움을 추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3" name="그룹 35"/>
          <p:cNvGrpSpPr/>
          <p:nvPr/>
        </p:nvGrpSpPr>
        <p:grpSpPr>
          <a:xfrm>
            <a:off x="714240" y="4456080"/>
            <a:ext cx="8429760" cy="401760"/>
            <a:chOff x="714240" y="4456080"/>
            <a:chExt cx="8429760" cy="401760"/>
          </a:xfrm>
        </p:grpSpPr>
        <p:grpSp>
          <p:nvGrpSpPr>
            <p:cNvPr id="1604" name="그룹 48"/>
            <p:cNvGrpSpPr/>
            <p:nvPr/>
          </p:nvGrpSpPr>
          <p:grpSpPr>
            <a:xfrm>
              <a:off x="714240" y="4456080"/>
              <a:ext cx="8429760" cy="401760"/>
              <a:chOff x="714240" y="4456080"/>
              <a:chExt cx="8429760" cy="401760"/>
            </a:xfrm>
          </p:grpSpPr>
          <p:sp>
            <p:nvSpPr>
              <p:cNvPr id="1605" name="직사각형 14"/>
              <p:cNvSpPr/>
              <p:nvPr/>
            </p:nvSpPr>
            <p:spPr>
              <a:xfrm>
                <a:off x="1123200" y="445608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긍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직선 연결선 15"/>
              <p:cNvSpPr/>
              <p:nvPr/>
            </p:nvSpPr>
            <p:spPr>
              <a:xfrm>
                <a:off x="714240" y="48564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7" name="그룹 49"/>
            <p:cNvGrpSpPr/>
            <p:nvPr/>
          </p:nvGrpSpPr>
          <p:grpSpPr>
            <a:xfrm>
              <a:off x="742680" y="4465440"/>
              <a:ext cx="328320" cy="319320"/>
              <a:chOff x="742680" y="4465440"/>
              <a:chExt cx="328320" cy="319320"/>
            </a:xfrm>
          </p:grpSpPr>
          <p:sp>
            <p:nvSpPr>
              <p:cNvPr id="1608" name="AutoShape 4"/>
              <p:cNvSpPr/>
              <p:nvPr/>
            </p:nvSpPr>
            <p:spPr>
              <a:xfrm>
                <a:off x="742680" y="44654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9" name="Freeform 5"/>
              <p:cNvGrpSpPr/>
              <p:nvPr/>
            </p:nvGrpSpPr>
            <p:grpSpPr>
              <a:xfrm>
                <a:off x="755280" y="4480200"/>
                <a:ext cx="176760" cy="171000"/>
                <a:chOff x="755280" y="4480200"/>
                <a:chExt cx="176760" cy="171000"/>
              </a:xfrm>
            </p:grpSpPr>
            <p:pic>
              <p:nvPicPr>
                <p:cNvPr id="1610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5280" y="448020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1" name=""/>
                <p:cNvSpPr/>
                <p:nvPr/>
              </p:nvSpPr>
              <p:spPr>
                <a:xfrm>
                  <a:off x="762840" y="44856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2" name="TextBox 88"/>
            <p:cNvSpPr/>
            <p:nvPr/>
          </p:nvSpPr>
          <p:spPr>
            <a:xfrm>
              <a:off x="741600" y="446076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3" name="그룹 43"/>
          <p:cNvGrpSpPr/>
          <p:nvPr/>
        </p:nvGrpSpPr>
        <p:grpSpPr>
          <a:xfrm>
            <a:off x="642960" y="4929120"/>
            <a:ext cx="8072280" cy="1214640"/>
            <a:chOff x="642960" y="4929120"/>
            <a:chExt cx="8072280" cy="1214640"/>
          </a:xfrm>
        </p:grpSpPr>
        <p:pic>
          <p:nvPicPr>
            <p:cNvPr id="1614" name="Picture 5" descr="233"/>
            <p:cNvPicPr/>
            <p:nvPr/>
          </p:nvPicPr>
          <p:blipFill>
            <a:blip r:embed="rId5"/>
            <a:srcRect l="2544" t="0" r="24313" b="0"/>
            <a:stretch/>
          </p:blipFill>
          <p:spPr>
            <a:xfrm>
              <a:off x="642960" y="4929120"/>
              <a:ext cx="8072280" cy="12146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15" name="직사각형 35"/>
            <p:cNvSpPr/>
            <p:nvPr/>
          </p:nvSpPr>
          <p:spPr>
            <a:xfrm>
              <a:off x="1000080" y="504504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집중을 증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적절한 행동을 강화함으로써 비행을 줄일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9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의 의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그룹 43"/>
          <p:cNvGrpSpPr/>
          <p:nvPr/>
        </p:nvGrpSpPr>
        <p:grpSpPr>
          <a:xfrm>
            <a:off x="571680" y="1876320"/>
            <a:ext cx="8072280" cy="4735800"/>
            <a:chOff x="571680" y="1876320"/>
            <a:chExt cx="8072280" cy="4735800"/>
          </a:xfrm>
        </p:grpSpPr>
        <p:pic>
          <p:nvPicPr>
            <p:cNvPr id="79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6962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9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0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1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직사각형 19"/>
            <p:cNvSpPr/>
            <p:nvPr/>
          </p:nvSpPr>
          <p:spPr>
            <a:xfrm>
              <a:off x="928800" y="1991880"/>
              <a:ext cx="7669080" cy="46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행동 혹은 행동잠재력의 비교적 지속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의 변화의 변화는 물론 지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방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의 변화를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후천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적 학습과 우연적 학습을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속기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통한 변화는 상당기간 지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의 방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변화와 부정적 변화를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적인 의미에서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인 변화만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의 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 수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을 직접 관찰할 수 있는 행동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타내는 것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은 구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6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17" name="그룹 14"/>
          <p:cNvGrpSpPr/>
          <p:nvPr/>
        </p:nvGrpSpPr>
        <p:grpSpPr>
          <a:xfrm>
            <a:off x="1027800" y="3137760"/>
            <a:ext cx="7044480" cy="407880"/>
            <a:chOff x="1027800" y="3137760"/>
            <a:chExt cx="7044480" cy="407880"/>
          </a:xfrm>
        </p:grpSpPr>
        <p:sp>
          <p:nvSpPr>
            <p:cNvPr id="1618" name="Rectangle 69"/>
            <p:cNvSpPr/>
            <p:nvPr/>
          </p:nvSpPr>
          <p:spPr>
            <a:xfrm>
              <a:off x="1388880" y="3143160"/>
              <a:ext cx="66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부분의 학습은 모델에 대한 관찰과 모방을 통해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9" name="그룹 231"/>
            <p:cNvGrpSpPr/>
            <p:nvPr/>
          </p:nvGrpSpPr>
          <p:grpSpPr>
            <a:xfrm>
              <a:off x="1027800" y="3137760"/>
              <a:ext cx="6187320" cy="407880"/>
              <a:chOff x="1027800" y="3137760"/>
              <a:chExt cx="6187320" cy="407880"/>
            </a:xfrm>
          </p:grpSpPr>
          <p:sp>
            <p:nvSpPr>
              <p:cNvPr id="1620" name="Line 68"/>
              <p:cNvSpPr/>
              <p:nvPr/>
            </p:nvSpPr>
            <p:spPr>
              <a:xfrm>
                <a:off x="1328760" y="3464640"/>
                <a:ext cx="5886360" cy="36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1" name="Group 74"/>
              <p:cNvGrpSpPr/>
              <p:nvPr/>
            </p:nvGrpSpPr>
            <p:grpSpPr>
              <a:xfrm>
                <a:off x="1027800" y="3137760"/>
                <a:ext cx="399240" cy="407880"/>
                <a:chOff x="1027800" y="3137760"/>
                <a:chExt cx="399240" cy="407880"/>
              </a:xfrm>
            </p:grpSpPr>
            <p:pic>
              <p:nvPicPr>
                <p:cNvPr id="1622" name="Picture 75" descr="circuler_1"/>
                <p:cNvPicPr/>
                <p:nvPr/>
              </p:nvPicPr>
              <p:blipFill>
                <a:blip r:embed="rId2"/>
                <a:stretch/>
              </p:blipFill>
              <p:spPr>
                <a:xfrm rot="4975200">
                  <a:off x="1086840" y="3202560"/>
                  <a:ext cx="2775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23" name="Oval 76"/>
                <p:cNvGrpSpPr/>
                <p:nvPr/>
              </p:nvGrpSpPr>
              <p:grpSpPr>
                <a:xfrm>
                  <a:off x="1086120" y="3193560"/>
                  <a:ext cx="280800" cy="286560"/>
                  <a:chOff x="1086120" y="3193560"/>
                  <a:chExt cx="280800" cy="286560"/>
                </a:xfrm>
              </p:grpSpPr>
              <p:pic>
                <p:nvPicPr>
                  <p:cNvPr id="1624" name="Oval 7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6120" y="31935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25" name=""/>
                  <p:cNvSpPr/>
                  <p:nvPr/>
                </p:nvSpPr>
                <p:spPr>
                  <a:xfrm rot="4976400">
                    <a:off x="1128240" y="3240360"/>
                    <a:ext cx="19476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6" name="Group 77"/>
                <p:cNvGrpSpPr/>
                <p:nvPr/>
              </p:nvGrpSpPr>
              <p:grpSpPr>
                <a:xfrm>
                  <a:off x="1085760" y="3266640"/>
                  <a:ext cx="109080" cy="236880"/>
                  <a:chOff x="1085760" y="3266640"/>
                  <a:chExt cx="109080" cy="236880"/>
                </a:xfrm>
              </p:grpSpPr>
              <p:grpSp>
                <p:nvGrpSpPr>
                  <p:cNvPr id="1627" name="Group 78"/>
                  <p:cNvGrpSpPr/>
                  <p:nvPr/>
                </p:nvGrpSpPr>
                <p:grpSpPr>
                  <a:xfrm>
                    <a:off x="1090800" y="3311640"/>
                    <a:ext cx="104040" cy="191880"/>
                    <a:chOff x="1090800" y="3311640"/>
                    <a:chExt cx="104040" cy="191880"/>
                  </a:xfrm>
                </p:grpSpPr>
                <p:sp>
                  <p:nvSpPr>
                    <p:cNvPr id="1628" name="AutoShape 79"/>
                    <p:cNvSpPr/>
                    <p:nvPr/>
                  </p:nvSpPr>
                  <p:spPr>
                    <a:xfrm flipH="1" flipV="1" rot="8941800">
                      <a:off x="1124280" y="33620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9" name="AutoShape 80"/>
                    <p:cNvSpPr/>
                    <p:nvPr/>
                  </p:nvSpPr>
                  <p:spPr>
                    <a:xfrm flipH="1" flipV="1" rot="9757200">
                      <a:off x="1113840" y="33422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0" name="AutoShape 81"/>
                    <p:cNvSpPr/>
                    <p:nvPr/>
                  </p:nvSpPr>
                  <p:spPr>
                    <a:xfrm flipH="1" flipV="1" rot="10053000">
                      <a:off x="1110240" y="332820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1" name="AutoShape 82"/>
                    <p:cNvSpPr/>
                    <p:nvPr/>
                  </p:nvSpPr>
                  <p:spPr>
                    <a:xfrm flipH="1" flipV="1" rot="10585200">
                      <a:off x="1106640" y="3312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2" name="Group 83"/>
                  <p:cNvGrpSpPr/>
                  <p:nvPr/>
                </p:nvGrpSpPr>
                <p:grpSpPr>
                  <a:xfrm>
                    <a:off x="1085760" y="3266640"/>
                    <a:ext cx="80640" cy="198720"/>
                    <a:chOff x="1085760" y="3266640"/>
                    <a:chExt cx="80640" cy="198720"/>
                  </a:xfrm>
                </p:grpSpPr>
                <p:sp>
                  <p:nvSpPr>
                    <p:cNvPr id="1633" name="AutoShape 84"/>
                    <p:cNvSpPr/>
                    <p:nvPr/>
                  </p:nvSpPr>
                  <p:spPr>
                    <a:xfrm flipH="1" flipV="1" rot="10294800">
                      <a:off x="1105560" y="332172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4" name="AutoShape 85"/>
                    <p:cNvSpPr/>
                    <p:nvPr/>
                  </p:nvSpPr>
                  <p:spPr>
                    <a:xfrm flipH="1" flipV="1" rot="11110200">
                      <a:off x="1103040" y="329796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5" name="AutoShape 86"/>
                    <p:cNvSpPr/>
                    <p:nvPr/>
                  </p:nvSpPr>
                  <p:spPr>
                    <a:xfrm flipH="1" flipV="1" rot="11406000">
                      <a:off x="1104120" y="3285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6" name="AutoShape 87"/>
                    <p:cNvSpPr/>
                    <p:nvPr/>
                  </p:nvSpPr>
                  <p:spPr>
                    <a:xfrm flipH="1" flipV="1" rot="11938200">
                      <a:off x="1107360" y="32688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37" name="Arc 88"/>
                <p:cNvSpPr/>
                <p:nvPr/>
              </p:nvSpPr>
              <p:spPr>
                <a:xfrm flipH="1" rot="1129200">
                  <a:off x="1071360" y="3179160"/>
                  <a:ext cx="311040" cy="3247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38" name="Picture 89" descr="light_shadow1"/>
                <p:cNvPicPr/>
                <p:nvPr/>
              </p:nvPicPr>
              <p:blipFill>
                <a:blip r:embed="rId4"/>
                <a:srcRect l="0" t="23760" r="0" b="0"/>
                <a:stretch/>
              </p:blipFill>
              <p:spPr>
                <a:xfrm rot="2405400">
                  <a:off x="1162800" y="3216960"/>
                  <a:ext cx="20520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639" name="그룹 35"/>
          <p:cNvGrpSpPr/>
          <p:nvPr/>
        </p:nvGrpSpPr>
        <p:grpSpPr>
          <a:xfrm>
            <a:off x="1027440" y="4867200"/>
            <a:ext cx="5901840" cy="409680"/>
            <a:chOff x="1027440" y="4867200"/>
            <a:chExt cx="5901840" cy="409680"/>
          </a:xfrm>
        </p:grpSpPr>
        <p:sp>
          <p:nvSpPr>
            <p:cNvPr id="1640" name="Rectangle 71"/>
            <p:cNvSpPr/>
            <p:nvPr/>
          </p:nvSpPr>
          <p:spPr>
            <a:xfrm>
              <a:off x="1382760" y="4867200"/>
              <a:ext cx="55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이 변화되지 않아도 학습은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1" name="그룹 233"/>
            <p:cNvGrpSpPr/>
            <p:nvPr/>
          </p:nvGrpSpPr>
          <p:grpSpPr>
            <a:xfrm>
              <a:off x="1027440" y="4870800"/>
              <a:ext cx="4535280" cy="406080"/>
              <a:chOff x="1027440" y="4870800"/>
              <a:chExt cx="4535280" cy="406080"/>
            </a:xfrm>
          </p:grpSpPr>
          <p:grpSp>
            <p:nvGrpSpPr>
              <p:cNvPr id="1642" name="Group 115"/>
              <p:cNvGrpSpPr/>
              <p:nvPr/>
            </p:nvGrpSpPr>
            <p:grpSpPr>
              <a:xfrm>
                <a:off x="1027440" y="4870800"/>
                <a:ext cx="398880" cy="406080"/>
                <a:chOff x="1027440" y="4870800"/>
                <a:chExt cx="398880" cy="406080"/>
              </a:xfrm>
            </p:grpSpPr>
            <p:pic>
              <p:nvPicPr>
                <p:cNvPr id="1643" name="Picture 116" descr="circuler_1"/>
                <p:cNvPicPr/>
                <p:nvPr/>
              </p:nvPicPr>
              <p:blipFill>
                <a:blip r:embed="rId5"/>
                <a:stretch/>
              </p:blipFill>
              <p:spPr>
                <a:xfrm rot="4977000">
                  <a:off x="1087560" y="493488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44" name="Oval 117"/>
                <p:cNvGrpSpPr/>
                <p:nvPr/>
              </p:nvGrpSpPr>
              <p:grpSpPr>
                <a:xfrm>
                  <a:off x="1085760" y="4925160"/>
                  <a:ext cx="280800" cy="286560"/>
                  <a:chOff x="1085760" y="4925160"/>
                  <a:chExt cx="280800" cy="286560"/>
                </a:xfrm>
              </p:grpSpPr>
              <p:pic>
                <p:nvPicPr>
                  <p:cNvPr id="1645" name="Oval 1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5760" y="49251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46" name=""/>
                  <p:cNvSpPr/>
                  <p:nvPr/>
                </p:nvSpPr>
                <p:spPr>
                  <a:xfrm rot="4976400">
                    <a:off x="1128600" y="4973400"/>
                    <a:ext cx="19368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7" name="Group 118"/>
                <p:cNvGrpSpPr/>
                <p:nvPr/>
              </p:nvGrpSpPr>
              <p:grpSpPr>
                <a:xfrm>
                  <a:off x="1086120" y="5000040"/>
                  <a:ext cx="108360" cy="235800"/>
                  <a:chOff x="1086120" y="5000040"/>
                  <a:chExt cx="108360" cy="235800"/>
                </a:xfrm>
              </p:grpSpPr>
              <p:grpSp>
                <p:nvGrpSpPr>
                  <p:cNvPr id="1648" name="Group 119"/>
                  <p:cNvGrpSpPr/>
                  <p:nvPr/>
                </p:nvGrpSpPr>
                <p:grpSpPr>
                  <a:xfrm>
                    <a:off x="1091160" y="5044680"/>
                    <a:ext cx="103320" cy="191160"/>
                    <a:chOff x="1091160" y="5044680"/>
                    <a:chExt cx="103320" cy="191160"/>
                  </a:xfrm>
                </p:grpSpPr>
                <p:sp>
                  <p:nvSpPr>
                    <p:cNvPr id="1649" name="AutoShape 120"/>
                    <p:cNvSpPr/>
                    <p:nvPr/>
                  </p:nvSpPr>
                  <p:spPr>
                    <a:xfrm flipH="1" flipV="1" rot="8941800">
                      <a:off x="1123920" y="509544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0" name="AutoShape 121"/>
                    <p:cNvSpPr/>
                    <p:nvPr/>
                  </p:nvSpPr>
                  <p:spPr>
                    <a:xfrm flipH="1" flipV="1" rot="9757200">
                      <a:off x="1113480" y="507456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1" name="AutoShape 122"/>
                    <p:cNvSpPr/>
                    <p:nvPr/>
                  </p:nvSpPr>
                  <p:spPr>
                    <a:xfrm flipH="1" flipV="1" rot="10053000">
                      <a:off x="1110600" y="50616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2" name="AutoShape 123"/>
                    <p:cNvSpPr/>
                    <p:nvPr/>
                  </p:nvSpPr>
                  <p:spPr>
                    <a:xfrm flipH="1" flipV="1" rot="10585200">
                      <a:off x="1106640" y="504504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3" name="Group 124"/>
                  <p:cNvGrpSpPr/>
                  <p:nvPr/>
                </p:nvGrpSpPr>
                <p:grpSpPr>
                  <a:xfrm>
                    <a:off x="1086120" y="5000040"/>
                    <a:ext cx="80280" cy="197640"/>
                    <a:chOff x="1086120" y="5000040"/>
                    <a:chExt cx="80280" cy="197640"/>
                  </a:xfrm>
                </p:grpSpPr>
                <p:sp>
                  <p:nvSpPr>
                    <p:cNvPr id="1654" name="AutoShape 125"/>
                    <p:cNvSpPr/>
                    <p:nvPr/>
                  </p:nvSpPr>
                  <p:spPr>
                    <a:xfrm flipH="1" flipV="1" rot="10294800">
                      <a:off x="1105200" y="5054760"/>
                      <a:ext cx="36360" cy="14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5" name="AutoShape 126"/>
                    <p:cNvSpPr/>
                    <p:nvPr/>
                  </p:nvSpPr>
                  <p:spPr>
                    <a:xfrm flipH="1" flipV="1" rot="11110200">
                      <a:off x="1103040" y="50310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6" name="AutoShape 127"/>
                    <p:cNvSpPr/>
                    <p:nvPr/>
                  </p:nvSpPr>
                  <p:spPr>
                    <a:xfrm flipH="1" flipV="1" rot="11406000">
                      <a:off x="1104120" y="501840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7" name="AutoShape 128"/>
                    <p:cNvSpPr/>
                    <p:nvPr/>
                  </p:nvSpPr>
                  <p:spPr>
                    <a:xfrm flipH="1" flipV="1" rot="11938200">
                      <a:off x="1107360" y="50022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58" name="Arc 129"/>
                <p:cNvSpPr/>
                <p:nvPr/>
              </p:nvSpPr>
              <p:spPr>
                <a:xfrm flipH="1" rot="1129200">
                  <a:off x="1071000" y="491220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59" name="Picture 130" descr="light_shadow1"/>
                <p:cNvPicPr/>
                <p:nvPr/>
              </p:nvPicPr>
              <p:blipFill>
                <a:blip r:embed="rId7"/>
                <a:srcRect l="0" t="23760" r="0" b="0"/>
                <a:stretch/>
              </p:blipFill>
              <p:spPr>
                <a:xfrm rot="2407800">
                  <a:off x="1163160" y="494892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60" name="Line 163"/>
              <p:cNvSpPr/>
              <p:nvPr/>
            </p:nvSpPr>
            <p:spPr>
              <a:xfrm>
                <a:off x="1306440" y="520092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1" name="그룹 55"/>
          <p:cNvGrpSpPr/>
          <p:nvPr/>
        </p:nvGrpSpPr>
        <p:grpSpPr>
          <a:xfrm>
            <a:off x="1027800" y="3959280"/>
            <a:ext cx="6759000" cy="411120"/>
            <a:chOff x="1027800" y="3959280"/>
            <a:chExt cx="6759000" cy="411120"/>
          </a:xfrm>
        </p:grpSpPr>
        <p:sp>
          <p:nvSpPr>
            <p:cNvPr id="1662" name="Rectangle 70"/>
            <p:cNvSpPr/>
            <p:nvPr/>
          </p:nvSpPr>
          <p:spPr>
            <a:xfrm>
              <a:off x="1371600" y="3959280"/>
              <a:ext cx="641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결과가 기대되는 모방행동은 나타날 확률이 높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그룹 232"/>
            <p:cNvGrpSpPr/>
            <p:nvPr/>
          </p:nvGrpSpPr>
          <p:grpSpPr>
            <a:xfrm>
              <a:off x="1027800" y="3963240"/>
              <a:ext cx="5629320" cy="407160"/>
              <a:chOff x="1027800" y="3963240"/>
              <a:chExt cx="5629320" cy="407160"/>
            </a:xfrm>
          </p:grpSpPr>
          <p:grpSp>
            <p:nvGrpSpPr>
              <p:cNvPr id="1664" name="Group 99"/>
              <p:cNvGrpSpPr/>
              <p:nvPr/>
            </p:nvGrpSpPr>
            <p:grpSpPr>
              <a:xfrm>
                <a:off x="1027800" y="3963240"/>
                <a:ext cx="398880" cy="407160"/>
                <a:chOff x="1027800" y="3963240"/>
                <a:chExt cx="398880" cy="407160"/>
              </a:xfrm>
            </p:grpSpPr>
            <p:pic>
              <p:nvPicPr>
                <p:cNvPr id="1665" name="Picture 100" descr="circuler_1"/>
                <p:cNvPicPr/>
                <p:nvPr/>
              </p:nvPicPr>
              <p:blipFill>
                <a:blip r:embed="rId8"/>
                <a:stretch/>
              </p:blipFill>
              <p:spPr>
                <a:xfrm rot="4978800">
                  <a:off x="1086840" y="4027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66" name="Oval 101"/>
                <p:cNvGrpSpPr/>
                <p:nvPr/>
              </p:nvGrpSpPr>
              <p:grpSpPr>
                <a:xfrm>
                  <a:off x="1085760" y="4016160"/>
                  <a:ext cx="280800" cy="286200"/>
                  <a:chOff x="1085760" y="4016160"/>
                  <a:chExt cx="280800" cy="286200"/>
                </a:xfrm>
              </p:grpSpPr>
              <p:pic>
                <p:nvPicPr>
                  <p:cNvPr id="1667" name="Oval 10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85760" y="4016160"/>
                    <a:ext cx="28080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"/>
                  <p:cNvSpPr/>
                  <p:nvPr/>
                </p:nvSpPr>
                <p:spPr>
                  <a:xfrm rot="4976400">
                    <a:off x="1127880" y="4065480"/>
                    <a:ext cx="19440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9" name="Group 102"/>
                <p:cNvGrpSpPr/>
                <p:nvPr/>
              </p:nvGrpSpPr>
              <p:grpSpPr>
                <a:xfrm>
                  <a:off x="1085760" y="4092120"/>
                  <a:ext cx="109080" cy="236520"/>
                  <a:chOff x="1085760" y="4092120"/>
                  <a:chExt cx="109080" cy="236520"/>
                </a:xfrm>
              </p:grpSpPr>
              <p:grpSp>
                <p:nvGrpSpPr>
                  <p:cNvPr id="1670" name="Group 103"/>
                  <p:cNvGrpSpPr/>
                  <p:nvPr/>
                </p:nvGrpSpPr>
                <p:grpSpPr>
                  <a:xfrm>
                    <a:off x="1091160" y="4137120"/>
                    <a:ext cx="103680" cy="191520"/>
                    <a:chOff x="1091160" y="4137120"/>
                    <a:chExt cx="103680" cy="191520"/>
                  </a:xfrm>
                </p:grpSpPr>
                <p:sp>
                  <p:nvSpPr>
                    <p:cNvPr id="1671" name="AutoShape 104"/>
                    <p:cNvSpPr/>
                    <p:nvPr/>
                  </p:nvSpPr>
                  <p:spPr>
                    <a:xfrm flipH="1" flipV="1" rot="8941800">
                      <a:off x="1124640" y="4187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AutoShape 105"/>
                    <p:cNvSpPr/>
                    <p:nvPr/>
                  </p:nvSpPr>
                  <p:spPr>
                    <a:xfrm flipH="1" flipV="1" rot="9757200">
                      <a:off x="1114200" y="4167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3" name="AutoShape 106"/>
                    <p:cNvSpPr/>
                    <p:nvPr/>
                  </p:nvSpPr>
                  <p:spPr>
                    <a:xfrm flipH="1" flipV="1" rot="10053000">
                      <a:off x="1110600" y="4153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AutoShape 107"/>
                    <p:cNvSpPr/>
                    <p:nvPr/>
                  </p:nvSpPr>
                  <p:spPr>
                    <a:xfrm flipH="1" flipV="1" rot="10585200">
                      <a:off x="1107000" y="4137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5" name="Group 108"/>
                  <p:cNvGrpSpPr/>
                  <p:nvPr/>
                </p:nvGrpSpPr>
                <p:grpSpPr>
                  <a:xfrm>
                    <a:off x="1085760" y="4092120"/>
                    <a:ext cx="80640" cy="198000"/>
                    <a:chOff x="1085760" y="4092120"/>
                    <a:chExt cx="80640" cy="198000"/>
                  </a:xfrm>
                </p:grpSpPr>
                <p:sp>
                  <p:nvSpPr>
                    <p:cNvPr id="1676" name="AutoShape 109"/>
                    <p:cNvSpPr/>
                    <p:nvPr/>
                  </p:nvSpPr>
                  <p:spPr>
                    <a:xfrm flipH="1" flipV="1" rot="10294800">
                      <a:off x="1105200" y="4146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AutoShape 110"/>
                    <p:cNvSpPr/>
                    <p:nvPr/>
                  </p:nvSpPr>
                  <p:spPr>
                    <a:xfrm flipH="1" flipV="1" rot="11110200">
                      <a:off x="1102320" y="4123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AutoShape 111"/>
                    <p:cNvSpPr/>
                    <p:nvPr/>
                  </p:nvSpPr>
                  <p:spPr>
                    <a:xfrm flipH="1" flipV="1" rot="11406000">
                      <a:off x="1104120" y="4110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AutoShape 112"/>
                    <p:cNvSpPr/>
                    <p:nvPr/>
                  </p:nvSpPr>
                  <p:spPr>
                    <a:xfrm flipH="1" flipV="1" rot="11938200">
                      <a:off x="1107360" y="4093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80" name="Arc 113"/>
                <p:cNvSpPr/>
                <p:nvPr/>
              </p:nvSpPr>
              <p:spPr>
                <a:xfrm flipH="1" rot="1129200">
                  <a:off x="1071720" y="4004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81" name="Picture 114" descr="light_shadow1"/>
                <p:cNvPicPr/>
                <p:nvPr/>
              </p:nvPicPr>
              <p:blipFill>
                <a:blip r:embed="rId10"/>
                <a:srcRect l="0" t="23760" r="0" b="0"/>
                <a:stretch/>
              </p:blipFill>
              <p:spPr>
                <a:xfrm rot="2404800">
                  <a:off x="1163160" y="4041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82" name="Line 164"/>
              <p:cNvSpPr/>
              <p:nvPr/>
            </p:nvSpPr>
            <p:spPr>
              <a:xfrm>
                <a:off x="1305000" y="4300560"/>
                <a:ext cx="5352120" cy="1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3" name="그룹 75"/>
          <p:cNvGrpSpPr/>
          <p:nvPr/>
        </p:nvGrpSpPr>
        <p:grpSpPr>
          <a:xfrm>
            <a:off x="1041840" y="5709240"/>
            <a:ext cx="5173200" cy="407160"/>
            <a:chOff x="1041840" y="5709240"/>
            <a:chExt cx="5173200" cy="407160"/>
          </a:xfrm>
        </p:grpSpPr>
        <p:sp>
          <p:nvSpPr>
            <p:cNvPr id="1684" name="Rectangle 73"/>
            <p:cNvSpPr/>
            <p:nvPr/>
          </p:nvSpPr>
          <p:spPr>
            <a:xfrm>
              <a:off x="1385640" y="5715000"/>
              <a:ext cx="482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은 학습에 중요한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5" name="그룹 235"/>
            <p:cNvGrpSpPr/>
            <p:nvPr/>
          </p:nvGrpSpPr>
          <p:grpSpPr>
            <a:xfrm>
              <a:off x="1041840" y="5709240"/>
              <a:ext cx="4539960" cy="407160"/>
              <a:chOff x="1041840" y="5709240"/>
              <a:chExt cx="4539960" cy="407160"/>
            </a:xfrm>
          </p:grpSpPr>
          <p:grpSp>
            <p:nvGrpSpPr>
              <p:cNvPr id="1686" name="Group 147"/>
              <p:cNvGrpSpPr/>
              <p:nvPr/>
            </p:nvGrpSpPr>
            <p:grpSpPr>
              <a:xfrm>
                <a:off x="1041840" y="5709240"/>
                <a:ext cx="398880" cy="407160"/>
                <a:chOff x="1041840" y="5709240"/>
                <a:chExt cx="398880" cy="407160"/>
              </a:xfrm>
            </p:grpSpPr>
            <p:pic>
              <p:nvPicPr>
                <p:cNvPr id="1687" name="Picture 148" descr="circuler_1"/>
                <p:cNvPicPr/>
                <p:nvPr/>
              </p:nvPicPr>
              <p:blipFill>
                <a:blip r:embed="rId11"/>
                <a:stretch/>
              </p:blipFill>
              <p:spPr>
                <a:xfrm rot="4978800">
                  <a:off x="1100880" y="5773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88" name="Oval 149"/>
                <p:cNvGrpSpPr/>
                <p:nvPr/>
              </p:nvGrpSpPr>
              <p:grpSpPr>
                <a:xfrm>
                  <a:off x="1099080" y="5766480"/>
                  <a:ext cx="285480" cy="286200"/>
                  <a:chOff x="1099080" y="5766480"/>
                  <a:chExt cx="285480" cy="286200"/>
                </a:xfrm>
              </p:grpSpPr>
              <p:pic>
                <p:nvPicPr>
                  <p:cNvPr id="1689" name="Oval 14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99080" y="576648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90" name=""/>
                  <p:cNvSpPr/>
                  <p:nvPr/>
                </p:nvSpPr>
                <p:spPr>
                  <a:xfrm rot="4976400">
                    <a:off x="1143000" y="581220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1" name="Group 150"/>
                <p:cNvGrpSpPr/>
                <p:nvPr/>
              </p:nvGrpSpPr>
              <p:grpSpPr>
                <a:xfrm>
                  <a:off x="1099800" y="5838120"/>
                  <a:ext cx="109080" cy="236520"/>
                  <a:chOff x="1099800" y="5838120"/>
                  <a:chExt cx="109080" cy="236520"/>
                </a:xfrm>
              </p:grpSpPr>
              <p:grpSp>
                <p:nvGrpSpPr>
                  <p:cNvPr id="1692" name="Group 151"/>
                  <p:cNvGrpSpPr/>
                  <p:nvPr/>
                </p:nvGrpSpPr>
                <p:grpSpPr>
                  <a:xfrm>
                    <a:off x="1105200" y="5883120"/>
                    <a:ext cx="103680" cy="191520"/>
                    <a:chOff x="1105200" y="5883120"/>
                    <a:chExt cx="103680" cy="191520"/>
                  </a:xfrm>
                </p:grpSpPr>
                <p:sp>
                  <p:nvSpPr>
                    <p:cNvPr id="1693" name="AutoShape 152"/>
                    <p:cNvSpPr/>
                    <p:nvPr/>
                  </p:nvSpPr>
                  <p:spPr>
                    <a:xfrm flipH="1" flipV="1" rot="8941800">
                      <a:off x="1138680" y="5933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AutoShape 153"/>
                    <p:cNvSpPr/>
                    <p:nvPr/>
                  </p:nvSpPr>
                  <p:spPr>
                    <a:xfrm flipH="1" flipV="1" rot="9757200">
                      <a:off x="1128240" y="5913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AutoShape 154"/>
                    <p:cNvSpPr/>
                    <p:nvPr/>
                  </p:nvSpPr>
                  <p:spPr>
                    <a:xfrm flipH="1" flipV="1" rot="10053000">
                      <a:off x="1124640" y="5899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6" name="AutoShape 155"/>
                    <p:cNvSpPr/>
                    <p:nvPr/>
                  </p:nvSpPr>
                  <p:spPr>
                    <a:xfrm flipH="1" flipV="1" rot="10585200">
                      <a:off x="1121040" y="5883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7" name="Group 156"/>
                  <p:cNvGrpSpPr/>
                  <p:nvPr/>
                </p:nvGrpSpPr>
                <p:grpSpPr>
                  <a:xfrm>
                    <a:off x="1099800" y="5838120"/>
                    <a:ext cx="80640" cy="198000"/>
                    <a:chOff x="1099800" y="5838120"/>
                    <a:chExt cx="80640" cy="198000"/>
                  </a:xfrm>
                </p:grpSpPr>
                <p:sp>
                  <p:nvSpPr>
                    <p:cNvPr id="1698" name="AutoShape 157"/>
                    <p:cNvSpPr/>
                    <p:nvPr/>
                  </p:nvSpPr>
                  <p:spPr>
                    <a:xfrm flipH="1" flipV="1" rot="10294800">
                      <a:off x="1119240" y="5892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AutoShape 158"/>
                    <p:cNvSpPr/>
                    <p:nvPr/>
                  </p:nvSpPr>
                  <p:spPr>
                    <a:xfrm flipH="1" flipV="1" rot="11110200">
                      <a:off x="1116360" y="5869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AutoShape 159"/>
                    <p:cNvSpPr/>
                    <p:nvPr/>
                  </p:nvSpPr>
                  <p:spPr>
                    <a:xfrm flipH="1" flipV="1" rot="11406000">
                      <a:off x="1118160" y="5856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AutoShape 160"/>
                    <p:cNvSpPr/>
                    <p:nvPr/>
                  </p:nvSpPr>
                  <p:spPr>
                    <a:xfrm flipH="1" flipV="1" rot="11938200">
                      <a:off x="1121400" y="5839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02" name="Arc 161"/>
                <p:cNvSpPr/>
                <p:nvPr/>
              </p:nvSpPr>
              <p:spPr>
                <a:xfrm flipH="1" rot="1129200">
                  <a:off x="1085760" y="5750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703" name="Picture 162" descr="light_shadow1"/>
                <p:cNvPicPr/>
                <p:nvPr/>
              </p:nvPicPr>
              <p:blipFill>
                <a:blip r:embed="rId13"/>
                <a:srcRect l="0" t="23760" r="0" b="0"/>
                <a:stretch/>
              </p:blipFill>
              <p:spPr>
                <a:xfrm rot="2404800">
                  <a:off x="1177200" y="5787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704" name="Line 166"/>
              <p:cNvSpPr/>
              <p:nvPr/>
            </p:nvSpPr>
            <p:spPr>
              <a:xfrm>
                <a:off x="1325160" y="6051240"/>
                <a:ext cx="42566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7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707" name="직사각형 134"/>
              <p:cNvSpPr/>
              <p:nvPr/>
            </p:nvSpPr>
            <p:spPr>
              <a:xfrm>
                <a:off x="1519560" y="1385640"/>
                <a:ext cx="249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7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712" name="Freeform 5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5" name="그룹 123"/>
          <p:cNvGrpSpPr/>
          <p:nvPr/>
        </p:nvGrpSpPr>
        <p:grpSpPr>
          <a:xfrm>
            <a:off x="428760" y="1928880"/>
            <a:ext cx="8715240" cy="700200"/>
            <a:chOff x="428760" y="1928880"/>
            <a:chExt cx="8715240" cy="700200"/>
          </a:xfrm>
        </p:grpSpPr>
        <p:pic>
          <p:nvPicPr>
            <p:cNvPr id="1716" name="Picture 5" descr="233"/>
            <p:cNvPicPr/>
            <p:nvPr/>
          </p:nvPicPr>
          <p:blipFill>
            <a:blip r:embed="rId15"/>
            <a:srcRect l="2544" t="0" r="24313" b="0"/>
            <a:stretch/>
          </p:blipFill>
          <p:spPr>
            <a:xfrm>
              <a:off x="428760" y="1985760"/>
              <a:ext cx="8501040" cy="643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717" name="직사각형 271"/>
            <p:cNvSpPr/>
            <p:nvPr/>
          </p:nvSpPr>
          <p:spPr>
            <a:xfrm>
              <a:off x="714240" y="1928880"/>
              <a:ext cx="842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링은 모델에 대한 관찰을 통해 일어나는 행동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의적 변화를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8" name="타원 272"/>
            <p:cNvGrpSpPr/>
            <p:nvPr/>
          </p:nvGrpSpPr>
          <p:grpSpPr>
            <a:xfrm>
              <a:off x="694800" y="2219040"/>
              <a:ext cx="225360" cy="231480"/>
              <a:chOff x="694800" y="2219040"/>
              <a:chExt cx="225360" cy="231480"/>
            </a:xfrm>
          </p:grpSpPr>
          <p:pic>
            <p:nvPicPr>
              <p:cNvPr id="1719" name="타원 272" descr=""/>
              <p:cNvPicPr/>
              <p:nvPr/>
            </p:nvPicPr>
            <p:blipFill>
              <a:blip r:embed="rId16"/>
              <a:stretch/>
            </p:blipFill>
            <p:spPr>
              <a:xfrm>
                <a:off x="694800" y="221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0" name=""/>
              <p:cNvSpPr/>
              <p:nvPr/>
            </p:nvSpPr>
            <p:spPr>
              <a:xfrm rot="10800000">
                <a:off x="773280" y="2273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722" name="그룹 35"/>
          <p:cNvGrpSpPr/>
          <p:nvPr/>
        </p:nvGrpSpPr>
        <p:grpSpPr>
          <a:xfrm>
            <a:off x="642960" y="1143000"/>
            <a:ext cx="8429760" cy="449280"/>
            <a:chOff x="642960" y="1143000"/>
            <a:chExt cx="8429760" cy="449280"/>
          </a:xfrm>
        </p:grpSpPr>
        <p:grpSp>
          <p:nvGrpSpPr>
            <p:cNvPr id="1723" name="그룹 48"/>
            <p:cNvGrpSpPr/>
            <p:nvPr/>
          </p:nvGrpSpPr>
          <p:grpSpPr>
            <a:xfrm>
              <a:off x="642960" y="1190520"/>
              <a:ext cx="8429760" cy="401760"/>
              <a:chOff x="642960" y="1190520"/>
              <a:chExt cx="8429760" cy="401760"/>
            </a:xfrm>
          </p:grpSpPr>
          <p:sp>
            <p:nvSpPr>
              <p:cNvPr id="1724" name="직사각형 55"/>
              <p:cNvSpPr/>
              <p:nvPr/>
            </p:nvSpPr>
            <p:spPr>
              <a:xfrm>
                <a:off x="1419120" y="11905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의 효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직선 연결선 18"/>
              <p:cNvSpPr/>
              <p:nvPr/>
            </p:nvSpPr>
            <p:spPr>
              <a:xfrm>
                <a:off x="642960" y="1590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6" name="그룹 49"/>
            <p:cNvGrpSpPr/>
            <p:nvPr/>
          </p:nvGrpSpPr>
          <p:grpSpPr>
            <a:xfrm>
              <a:off x="671400" y="1199880"/>
              <a:ext cx="328320" cy="319320"/>
              <a:chOff x="671400" y="1199880"/>
              <a:chExt cx="328320" cy="319320"/>
            </a:xfrm>
          </p:grpSpPr>
          <p:sp>
            <p:nvSpPr>
              <p:cNvPr id="1727" name="AutoShape 4"/>
              <p:cNvSpPr/>
              <p:nvPr/>
            </p:nvSpPr>
            <p:spPr>
              <a:xfrm>
                <a:off x="671400" y="1199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8" name="Freeform 5"/>
              <p:cNvGrpSpPr/>
              <p:nvPr/>
            </p:nvGrpSpPr>
            <p:grpSpPr>
              <a:xfrm>
                <a:off x="688680" y="1212840"/>
                <a:ext cx="170640" cy="171000"/>
                <a:chOff x="688680" y="1212840"/>
                <a:chExt cx="170640" cy="171000"/>
              </a:xfrm>
            </p:grpSpPr>
            <p:pic>
              <p:nvPicPr>
                <p:cNvPr id="17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28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0" name=""/>
                <p:cNvSpPr/>
                <p:nvPr/>
              </p:nvSpPr>
              <p:spPr>
                <a:xfrm>
                  <a:off x="691920" y="122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1" name="TextBox 88"/>
            <p:cNvSpPr/>
            <p:nvPr/>
          </p:nvSpPr>
          <p:spPr>
            <a:xfrm>
              <a:off x="67824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그룹 26"/>
          <p:cNvGrpSpPr/>
          <p:nvPr/>
        </p:nvGrpSpPr>
        <p:grpSpPr>
          <a:xfrm>
            <a:off x="214200" y="1785960"/>
            <a:ext cx="8572680" cy="1357200"/>
            <a:chOff x="214200" y="1785960"/>
            <a:chExt cx="8572680" cy="1357200"/>
          </a:xfrm>
        </p:grpSpPr>
        <p:grpSp>
          <p:nvGrpSpPr>
            <p:cNvPr id="1733" name="그룹 91"/>
            <p:cNvGrpSpPr/>
            <p:nvPr/>
          </p:nvGrpSpPr>
          <p:grpSpPr>
            <a:xfrm>
              <a:off x="214200" y="1785960"/>
              <a:ext cx="8501400" cy="1357200"/>
              <a:chOff x="214200" y="1785960"/>
              <a:chExt cx="8501400" cy="1357200"/>
            </a:xfrm>
          </p:grpSpPr>
          <p:pic>
            <p:nvPicPr>
              <p:cNvPr id="17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071440"/>
                <a:ext cx="8501400" cy="1071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35" name="그룹 34"/>
              <p:cNvGrpSpPr/>
              <p:nvPr/>
            </p:nvGrpSpPr>
            <p:grpSpPr>
              <a:xfrm>
                <a:off x="785520" y="1875960"/>
                <a:ext cx="349200" cy="381240"/>
                <a:chOff x="785520" y="1875960"/>
                <a:chExt cx="349200" cy="381240"/>
              </a:xfrm>
            </p:grpSpPr>
            <p:pic>
              <p:nvPicPr>
                <p:cNvPr id="1736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85520" y="1901520"/>
                  <a:ext cx="349200" cy="35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7" name="TextBox 36"/>
                <p:cNvSpPr/>
                <p:nvPr/>
              </p:nvSpPr>
              <p:spPr>
                <a:xfrm>
                  <a:off x="821520" y="18759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8" name="직사각형 63"/>
              <p:cNvSpPr/>
              <p:nvPr/>
            </p:nvSpPr>
            <p:spPr>
              <a:xfrm>
                <a:off x="1546560" y="1785960"/>
                <a:ext cx="4078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servation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learning 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9" name="타원 57"/>
            <p:cNvGrpSpPr/>
            <p:nvPr/>
          </p:nvGrpSpPr>
          <p:grpSpPr>
            <a:xfrm>
              <a:off x="932400" y="2499480"/>
              <a:ext cx="225360" cy="231480"/>
              <a:chOff x="932400" y="2499480"/>
              <a:chExt cx="225360" cy="231480"/>
            </a:xfrm>
          </p:grpSpPr>
          <p:pic>
            <p:nvPicPr>
              <p:cNvPr id="1740" name="타원 57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400" y="249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1" name=""/>
              <p:cNvSpPr/>
              <p:nvPr/>
            </p:nvSpPr>
            <p:spPr>
              <a:xfrm rot="10800000">
                <a:off x="1014120" y="2557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직사각형 58"/>
            <p:cNvSpPr/>
            <p:nvPr/>
          </p:nvSpPr>
          <p:spPr>
            <a:xfrm>
              <a:off x="1142640" y="2336760"/>
              <a:ext cx="76442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관찰하는 과정을 통해 새로운 행동이나 기능을 학습하는 현상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직선 연결선 60"/>
            <p:cNvSpPr/>
            <p:nvPr/>
          </p:nvSpPr>
          <p:spPr>
            <a:xfrm>
              <a:off x="6643800" y="207144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4" name="그룹 26"/>
          <p:cNvGrpSpPr/>
          <p:nvPr/>
        </p:nvGrpSpPr>
        <p:grpSpPr>
          <a:xfrm>
            <a:off x="214200" y="3206880"/>
            <a:ext cx="8572680" cy="1005480"/>
            <a:chOff x="214200" y="3206880"/>
            <a:chExt cx="8572680" cy="1005480"/>
          </a:xfrm>
        </p:grpSpPr>
        <p:grpSp>
          <p:nvGrpSpPr>
            <p:cNvPr id="1745" name="그룹 91"/>
            <p:cNvGrpSpPr/>
            <p:nvPr/>
          </p:nvGrpSpPr>
          <p:grpSpPr>
            <a:xfrm>
              <a:off x="214200" y="3206880"/>
              <a:ext cx="8501400" cy="1000440"/>
              <a:chOff x="214200" y="3206880"/>
              <a:chExt cx="8501400" cy="1000440"/>
            </a:xfrm>
          </p:grpSpPr>
          <p:pic>
            <p:nvPicPr>
              <p:cNvPr id="1746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14200" y="3492720"/>
                <a:ext cx="8501400" cy="71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47" name="그룹 34"/>
              <p:cNvGrpSpPr/>
              <p:nvPr/>
            </p:nvGrpSpPr>
            <p:grpSpPr>
              <a:xfrm>
                <a:off x="785520" y="3296880"/>
                <a:ext cx="349200" cy="381600"/>
                <a:chOff x="785520" y="3296880"/>
                <a:chExt cx="349200" cy="381600"/>
              </a:xfrm>
            </p:grpSpPr>
            <p:pic>
              <p:nvPicPr>
                <p:cNvPr id="174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85520" y="3321720"/>
                  <a:ext cx="349200" cy="35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9" name="TextBox 36"/>
                <p:cNvSpPr/>
                <p:nvPr/>
              </p:nvSpPr>
              <p:spPr>
                <a:xfrm>
                  <a:off x="821520" y="3296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0" name="직사각형 75"/>
              <p:cNvSpPr/>
              <p:nvPr/>
            </p:nvSpPr>
            <p:spPr>
              <a:xfrm>
                <a:off x="1372320" y="3206880"/>
                <a:ext cx="25444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금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1" name="타원 69"/>
            <p:cNvGrpSpPr/>
            <p:nvPr/>
          </p:nvGrpSpPr>
          <p:grpSpPr>
            <a:xfrm>
              <a:off x="932400" y="3877200"/>
              <a:ext cx="225360" cy="231480"/>
              <a:chOff x="932400" y="3877200"/>
              <a:chExt cx="225360" cy="231480"/>
            </a:xfrm>
          </p:grpSpPr>
          <p:pic>
            <p:nvPicPr>
              <p:cNvPr id="1752" name="타원 69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4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3" name=""/>
              <p:cNvSpPr/>
              <p:nvPr/>
            </p:nvSpPr>
            <p:spPr>
              <a:xfrm rot="10800000">
                <a:off x="1014120" y="3935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4" name="직사각형 70"/>
            <p:cNvSpPr/>
            <p:nvPr/>
          </p:nvSpPr>
          <p:spPr>
            <a:xfrm>
              <a:off x="1142640" y="370692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처벌받는 모습을 관찰한 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치 처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행동을 금지하거나 억제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직선 연결선 72"/>
            <p:cNvSpPr/>
            <p:nvPr/>
          </p:nvSpPr>
          <p:spPr>
            <a:xfrm>
              <a:off x="6643800" y="34927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6" name="그룹 26"/>
          <p:cNvGrpSpPr/>
          <p:nvPr/>
        </p:nvGrpSpPr>
        <p:grpSpPr>
          <a:xfrm>
            <a:off x="214200" y="4357800"/>
            <a:ext cx="8572680" cy="1285920"/>
            <a:chOff x="214200" y="4357800"/>
            <a:chExt cx="8572680" cy="1285920"/>
          </a:xfrm>
        </p:grpSpPr>
        <p:grpSp>
          <p:nvGrpSpPr>
            <p:cNvPr id="1757" name="그룹 91"/>
            <p:cNvGrpSpPr/>
            <p:nvPr/>
          </p:nvGrpSpPr>
          <p:grpSpPr>
            <a:xfrm>
              <a:off x="214200" y="4357800"/>
              <a:ext cx="8501400" cy="1285920"/>
              <a:chOff x="214200" y="4357800"/>
              <a:chExt cx="8501400" cy="1285920"/>
            </a:xfrm>
          </p:grpSpPr>
          <p:pic>
            <p:nvPicPr>
              <p:cNvPr id="1758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14200" y="4643280"/>
                <a:ext cx="8501400" cy="10004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59" name="그룹 34"/>
              <p:cNvGrpSpPr/>
              <p:nvPr/>
            </p:nvGrpSpPr>
            <p:grpSpPr>
              <a:xfrm>
                <a:off x="785520" y="4447800"/>
                <a:ext cx="349200" cy="381240"/>
                <a:chOff x="785520" y="4447800"/>
                <a:chExt cx="349200" cy="381240"/>
              </a:xfrm>
            </p:grpSpPr>
            <p:pic>
              <p:nvPicPr>
                <p:cNvPr id="1760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552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1" name="TextBox 36"/>
                <p:cNvSpPr/>
                <p:nvPr/>
              </p:nvSpPr>
              <p:spPr>
                <a:xfrm>
                  <a:off x="82152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2" name="직사각형 41"/>
              <p:cNvSpPr/>
              <p:nvPr/>
            </p:nvSpPr>
            <p:spPr>
              <a:xfrm>
                <a:off x="1434600" y="4357800"/>
                <a:ext cx="29710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탈제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3" name="타원 36"/>
            <p:cNvGrpSpPr/>
            <p:nvPr/>
          </p:nvGrpSpPr>
          <p:grpSpPr>
            <a:xfrm>
              <a:off x="932400" y="4956120"/>
              <a:ext cx="225360" cy="231480"/>
              <a:chOff x="932400" y="4956120"/>
              <a:chExt cx="225360" cy="231480"/>
            </a:xfrm>
          </p:grpSpPr>
          <p:pic>
            <p:nvPicPr>
              <p:cNvPr id="1764" name="타원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400" y="4956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5" name=""/>
              <p:cNvSpPr/>
              <p:nvPr/>
            </p:nvSpPr>
            <p:spPr>
              <a:xfrm rot="10800000">
                <a:off x="1014120" y="501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6" name="직사각형 37"/>
            <p:cNvSpPr/>
            <p:nvPr/>
          </p:nvSpPr>
          <p:spPr>
            <a:xfrm>
              <a:off x="1142640" y="4857840"/>
              <a:ext cx="76442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금지된 행동을 한 모델이 보상을 받거나 처벌받지 않는 것을 관찰한 후 평소 억제하던 그 행동을 수행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직선 연결선 38"/>
            <p:cNvSpPr/>
            <p:nvPr/>
          </p:nvSpPr>
          <p:spPr>
            <a:xfrm>
              <a:off x="6643800" y="464328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8" name="그룹 26"/>
          <p:cNvGrpSpPr/>
          <p:nvPr/>
        </p:nvGrpSpPr>
        <p:grpSpPr>
          <a:xfrm>
            <a:off x="214200" y="5715000"/>
            <a:ext cx="8572680" cy="1000080"/>
            <a:chOff x="214200" y="5715000"/>
            <a:chExt cx="8572680" cy="1000080"/>
          </a:xfrm>
        </p:grpSpPr>
        <p:grpSp>
          <p:nvGrpSpPr>
            <p:cNvPr id="1769" name="그룹 91"/>
            <p:cNvGrpSpPr/>
            <p:nvPr/>
          </p:nvGrpSpPr>
          <p:grpSpPr>
            <a:xfrm>
              <a:off x="214200" y="5715000"/>
              <a:ext cx="8501400" cy="1000080"/>
              <a:chOff x="214200" y="5715000"/>
              <a:chExt cx="8501400" cy="1000080"/>
            </a:xfrm>
          </p:grpSpPr>
          <p:pic>
            <p:nvPicPr>
              <p:cNvPr id="1770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14200" y="5937120"/>
                <a:ext cx="8501400" cy="777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71" name="그룹 34"/>
              <p:cNvGrpSpPr/>
              <p:nvPr/>
            </p:nvGrpSpPr>
            <p:grpSpPr>
              <a:xfrm>
                <a:off x="785520" y="5784840"/>
                <a:ext cx="349200" cy="337320"/>
                <a:chOff x="785520" y="5784840"/>
                <a:chExt cx="349200" cy="337320"/>
              </a:xfrm>
            </p:grpSpPr>
            <p:pic>
              <p:nvPicPr>
                <p:cNvPr id="1772" name="Picture 177" descr="bull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85520" y="5802480"/>
                  <a:ext cx="349200" cy="2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3" name="TextBox 36"/>
                <p:cNvSpPr/>
                <p:nvPr/>
              </p:nvSpPr>
              <p:spPr>
                <a:xfrm>
                  <a:off x="821520" y="57848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4" name="직사각형 51"/>
              <p:cNvSpPr/>
              <p:nvPr/>
            </p:nvSpPr>
            <p:spPr>
              <a:xfrm>
                <a:off x="1390680" y="5715000"/>
                <a:ext cx="12261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존 행동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촉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5" name="타원 46"/>
            <p:cNvGrpSpPr/>
            <p:nvPr/>
          </p:nvGrpSpPr>
          <p:grpSpPr>
            <a:xfrm>
              <a:off x="932400" y="6315480"/>
              <a:ext cx="225360" cy="207000"/>
              <a:chOff x="932400" y="6315480"/>
              <a:chExt cx="225360" cy="207000"/>
            </a:xfrm>
          </p:grpSpPr>
          <p:pic>
            <p:nvPicPr>
              <p:cNvPr id="1776" name="타원 46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400" y="6315480"/>
                <a:ext cx="22536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7" name=""/>
              <p:cNvSpPr/>
              <p:nvPr/>
            </p:nvSpPr>
            <p:spPr>
              <a:xfrm rot="10800000">
                <a:off x="1014120" y="6368760"/>
                <a:ext cx="69120" cy="5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8" name="직사각형 47"/>
            <p:cNvSpPr/>
            <p:nvPr/>
          </p:nvSpPr>
          <p:spPr>
            <a:xfrm>
              <a:off x="1142640" y="614340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은 관찰자가 이미 학습한 행동을 촉진하는 기능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직선 연결선 48"/>
            <p:cNvSpPr/>
            <p:nvPr/>
          </p:nvSpPr>
          <p:spPr>
            <a:xfrm>
              <a:off x="6643800" y="59371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0" name="그룹 45"/>
          <p:cNvGrpSpPr/>
          <p:nvPr/>
        </p:nvGrpSpPr>
        <p:grpSpPr>
          <a:xfrm>
            <a:off x="4941720" y="3022560"/>
            <a:ext cx="2273400" cy="2367000"/>
            <a:chOff x="4941720" y="3022560"/>
            <a:chExt cx="2273400" cy="2367000"/>
          </a:xfrm>
        </p:grpSpPr>
        <p:sp>
          <p:nvSpPr>
            <p:cNvPr id="1781" name="AutoShape 5"/>
            <p:cNvSpPr/>
            <p:nvPr/>
          </p:nvSpPr>
          <p:spPr>
            <a:xfrm>
              <a:off x="494172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TextBox 37"/>
            <p:cNvSpPr/>
            <p:nvPr/>
          </p:nvSpPr>
          <p:spPr>
            <a:xfrm>
              <a:off x="5572080" y="3429000"/>
              <a:ext cx="155340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연습한 행동을 표출하려는 동기를 형성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3" name="그룹 44"/>
          <p:cNvGrpSpPr/>
          <p:nvPr/>
        </p:nvGrpSpPr>
        <p:grpSpPr>
          <a:xfrm>
            <a:off x="3313080" y="3036960"/>
            <a:ext cx="2435400" cy="2367000"/>
            <a:chOff x="3313080" y="3036960"/>
            <a:chExt cx="2435400" cy="2367000"/>
          </a:xfrm>
        </p:grpSpPr>
        <p:sp>
          <p:nvSpPr>
            <p:cNvPr id="1784" name="AutoShape 6"/>
            <p:cNvSpPr/>
            <p:nvPr/>
          </p:nvSpPr>
          <p:spPr>
            <a:xfrm>
              <a:off x="3313080" y="3036960"/>
              <a:ext cx="2435400" cy="2367000"/>
            </a:xfrm>
            <a:custGeom>
              <a:avLst/>
              <a:gdLst>
                <a:gd name="textAreaLeft" fmla="*/ 0 w 2435400"/>
                <a:gd name="textAreaRight" fmla="*/ 2435760 w 2435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TextBox 36"/>
            <p:cNvSpPr/>
            <p:nvPr/>
          </p:nvSpPr>
          <p:spPr>
            <a:xfrm>
              <a:off x="4214880" y="3433680"/>
              <a:ext cx="139428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생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방된 행동을 동작으로 실행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6" name="그룹 43"/>
          <p:cNvGrpSpPr/>
          <p:nvPr/>
        </p:nvGrpSpPr>
        <p:grpSpPr>
          <a:xfrm>
            <a:off x="2000160" y="3022560"/>
            <a:ext cx="2273400" cy="2367000"/>
            <a:chOff x="2000160" y="3022560"/>
            <a:chExt cx="2273400" cy="2367000"/>
          </a:xfrm>
        </p:grpSpPr>
        <p:sp>
          <p:nvSpPr>
            <p:cNvPr id="1787" name="AutoShape 5"/>
            <p:cNvSpPr/>
            <p:nvPr/>
          </p:nvSpPr>
          <p:spPr>
            <a:xfrm>
              <a:off x="200016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TextBox 35"/>
            <p:cNvSpPr/>
            <p:nvPr/>
          </p:nvSpPr>
          <p:spPr>
            <a:xfrm>
              <a:off x="2643120" y="3433680"/>
              <a:ext cx="148788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기억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그룹 42"/>
          <p:cNvGrpSpPr/>
          <p:nvPr/>
        </p:nvGrpSpPr>
        <p:grpSpPr>
          <a:xfrm>
            <a:off x="371520" y="3036960"/>
            <a:ext cx="2435040" cy="2367000"/>
            <a:chOff x="371520" y="3036960"/>
            <a:chExt cx="2435040" cy="2367000"/>
          </a:xfrm>
        </p:grpSpPr>
        <p:sp>
          <p:nvSpPr>
            <p:cNvPr id="1790" name="AutoShape 6"/>
            <p:cNvSpPr/>
            <p:nvPr/>
          </p:nvSpPr>
          <p:spPr>
            <a:xfrm>
              <a:off x="371520" y="3036960"/>
              <a:ext cx="2435040" cy="2367000"/>
            </a:xfrm>
            <a:custGeom>
              <a:avLst/>
              <a:gdLst>
                <a:gd name="textAreaLeft" fmla="*/ 0 w 2435040"/>
                <a:gd name="textAreaRight" fmla="*/ 2435400 w 243504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34"/>
            <p:cNvSpPr/>
            <p:nvPr/>
          </p:nvSpPr>
          <p:spPr>
            <a:xfrm>
              <a:off x="1142640" y="3433680"/>
              <a:ext cx="157176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에 주의를 기울이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2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sp>
        <p:nvSpPr>
          <p:cNvPr id="1793" name="Freeform 7"/>
          <p:cNvSpPr/>
          <p:nvPr/>
        </p:nvSpPr>
        <p:spPr>
          <a:xfrm>
            <a:off x="658800" y="2643120"/>
            <a:ext cx="6199200" cy="424080"/>
          </a:xfrm>
          <a:prstGeom prst="pie">
            <a:avLst/>
          </a:prstGeom>
          <a:gradFill rotWithShape="0">
            <a:gsLst>
              <a:gs pos="0">
                <a:srgbClr val="75c638"/>
              </a:gs>
              <a:gs pos="100000">
                <a:srgbClr val="365c1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AutoShape 8"/>
          <p:cNvSpPr/>
          <p:nvPr/>
        </p:nvSpPr>
        <p:spPr>
          <a:xfrm>
            <a:off x="376200" y="2644920"/>
            <a:ext cx="838080" cy="2788920"/>
          </a:xfrm>
          <a:custGeom>
            <a:avLst/>
            <a:gdLst>
              <a:gd name="textAreaLeft" fmla="*/ 0 w 838080"/>
              <a:gd name="textAreaRight" fmla="*/ 838440 w 838080"/>
              <a:gd name="textAreaTop" fmla="*/ 0 h 2788920"/>
              <a:gd name="textAreaBottom" fmla="*/ 2789280 h 27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437" y="0"/>
                </a:lnTo>
                <a:lnTo>
                  <a:pt x="21600" y="10800"/>
                </a:lnTo>
                <a:lnTo>
                  <a:pt x="943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564c3"/>
              </a:gs>
              <a:gs pos="100000">
                <a:srgbClr val="254688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Rectangle 10"/>
          <p:cNvSpPr/>
          <p:nvPr/>
        </p:nvSpPr>
        <p:spPr>
          <a:xfrm>
            <a:off x="2293920" y="267012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델링의 과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직선 연결선 32"/>
          <p:cNvSpPr/>
          <p:nvPr/>
        </p:nvSpPr>
        <p:spPr>
          <a:xfrm>
            <a:off x="385920" y="5405400"/>
            <a:ext cx="6400800" cy="28440"/>
          </a:xfrm>
          <a:prstGeom prst="line">
            <a:avLst/>
          </a:prstGeom>
          <a:ln w="316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TextBox 38"/>
          <p:cNvSpPr/>
          <p:nvPr/>
        </p:nvSpPr>
        <p:spPr>
          <a:xfrm>
            <a:off x="482760" y="3395520"/>
            <a:ext cx="33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8" name="모서리가 둥근 직사각형 47"/>
          <p:cNvGrpSpPr/>
          <p:nvPr/>
        </p:nvGrpSpPr>
        <p:grpSpPr>
          <a:xfrm>
            <a:off x="7070760" y="3840120"/>
            <a:ext cx="1871640" cy="1049400"/>
            <a:chOff x="7070760" y="3840120"/>
            <a:chExt cx="1871640" cy="1049400"/>
          </a:xfrm>
        </p:grpSpPr>
        <p:pic>
          <p:nvPicPr>
            <p:cNvPr id="1799" name="모서리가 둥근 직사각형 47" descr=""/>
            <p:cNvPicPr/>
            <p:nvPr/>
          </p:nvPicPr>
          <p:blipFill>
            <a:blip r:embed="rId2"/>
            <a:stretch/>
          </p:blipFill>
          <p:spPr>
            <a:xfrm>
              <a:off x="7070760" y="3840120"/>
              <a:ext cx="18716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0" name=""/>
            <p:cNvSpPr/>
            <p:nvPr/>
          </p:nvSpPr>
          <p:spPr>
            <a:xfrm>
              <a:off x="7464600" y="3892680"/>
              <a:ext cx="1430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동작수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1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03" name="직사각형 31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의 과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08" name="Freeform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0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2" name=""/>
          <p:cNvGraphicFramePr/>
          <p:nvPr/>
        </p:nvGraphicFramePr>
        <p:xfrm>
          <a:off x="357120" y="3787920"/>
          <a:ext cx="8501040" cy="2641320"/>
        </p:xfrm>
        <a:graphic>
          <a:graphicData uri="http://schemas.openxmlformats.org/drawingml/2006/table">
            <a:tbl>
              <a:tblPr/>
              <a:tblGrid>
                <a:gridCol w="1951200"/>
                <a:gridCol w="654984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과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지적 모델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는 과제를 수행하면서 큰 소리로 어떤 행동을 해야 하는가를 아동에게 말해준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외적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교사의 지도를 받는 상태에서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자신에게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자기지도의 축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속삭이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내재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내적언어를 사용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pSp>
        <p:nvGrpSpPr>
          <p:cNvPr id="18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15" name="직사각형 13"/>
              <p:cNvSpPr/>
              <p:nvPr/>
            </p:nvSpPr>
            <p:spPr>
              <a:xfrm>
                <a:off x="1555560" y="1385640"/>
                <a:ext cx="455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적 행동수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 modific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2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3" name="그룹 123"/>
          <p:cNvGrpSpPr/>
          <p:nvPr/>
        </p:nvGrpSpPr>
        <p:grpSpPr>
          <a:xfrm>
            <a:off x="428760" y="1903320"/>
            <a:ext cx="8715240" cy="954360"/>
            <a:chOff x="428760" y="1903320"/>
            <a:chExt cx="8715240" cy="954360"/>
          </a:xfrm>
        </p:grpSpPr>
        <p:pic>
          <p:nvPicPr>
            <p:cNvPr id="18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428760" y="1985760"/>
              <a:ext cx="8501040" cy="871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825" name="직사각형 17"/>
            <p:cNvSpPr/>
            <p:nvPr/>
          </p:nvSpPr>
          <p:spPr>
            <a:xfrm>
              <a:off x="714240" y="1903320"/>
              <a:ext cx="842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사고과정을 조작하여 외현적 행동을 수정하려는 기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론과 행동주의 원리를 통합적으로 적용하여 자기조절 능력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향상시키려고 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6" name="타원 18"/>
            <p:cNvGrpSpPr/>
            <p:nvPr/>
          </p:nvGrpSpPr>
          <p:grpSpPr>
            <a:xfrm>
              <a:off x="694800" y="2072520"/>
              <a:ext cx="225360" cy="231480"/>
              <a:chOff x="694800" y="2072520"/>
              <a:chExt cx="225360" cy="231480"/>
            </a:xfrm>
          </p:grpSpPr>
          <p:pic>
            <p:nvPicPr>
              <p:cNvPr id="182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694800" y="2072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8" name=""/>
              <p:cNvSpPr/>
              <p:nvPr/>
            </p:nvSpPr>
            <p:spPr>
              <a:xfrm rot="10800000">
                <a:off x="773280" y="2130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9" name="타원 19"/>
          <p:cNvGrpSpPr/>
          <p:nvPr/>
        </p:nvGrpSpPr>
        <p:grpSpPr>
          <a:xfrm>
            <a:off x="695160" y="2498760"/>
            <a:ext cx="225720" cy="237960"/>
            <a:chOff x="695160" y="2498760"/>
            <a:chExt cx="225720" cy="237960"/>
          </a:xfrm>
        </p:grpSpPr>
        <p:pic>
          <p:nvPicPr>
            <p:cNvPr id="1830" name="타원 19" descr=""/>
            <p:cNvPicPr/>
            <p:nvPr/>
          </p:nvPicPr>
          <p:blipFill>
            <a:blip r:embed="rId5"/>
            <a:stretch/>
          </p:blipFill>
          <p:spPr>
            <a:xfrm>
              <a:off x="695160" y="2498760"/>
              <a:ext cx="2257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1" name=""/>
            <p:cNvSpPr/>
            <p:nvPr/>
          </p:nvSpPr>
          <p:spPr>
            <a:xfrm rot="10800000">
              <a:off x="773280" y="2558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그룹 91"/>
          <p:cNvGrpSpPr/>
          <p:nvPr/>
        </p:nvGrpSpPr>
        <p:grpSpPr>
          <a:xfrm>
            <a:off x="752040" y="3289320"/>
            <a:ext cx="7534800" cy="459000"/>
            <a:chOff x="752040" y="3289320"/>
            <a:chExt cx="7534800" cy="459000"/>
          </a:xfrm>
        </p:grpSpPr>
        <p:grpSp>
          <p:nvGrpSpPr>
            <p:cNvPr id="1833" name="그룹 34"/>
            <p:cNvGrpSpPr/>
            <p:nvPr/>
          </p:nvGrpSpPr>
          <p:grpSpPr>
            <a:xfrm>
              <a:off x="752040" y="3342960"/>
              <a:ext cx="362160" cy="358920"/>
              <a:chOff x="752040" y="3342960"/>
              <a:chExt cx="362160" cy="358920"/>
            </a:xfrm>
          </p:grpSpPr>
          <p:pic>
            <p:nvPicPr>
              <p:cNvPr id="1834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780480" y="3382560"/>
                <a:ext cx="323280" cy="31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5" name="TextBox 36"/>
              <p:cNvSpPr/>
              <p:nvPr/>
            </p:nvSpPr>
            <p:spPr>
              <a:xfrm>
                <a:off x="752040" y="334296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6" name="직사각형 25"/>
            <p:cNvSpPr/>
            <p:nvPr/>
          </p:nvSpPr>
          <p:spPr>
            <a:xfrm>
              <a:off x="1588680" y="3289320"/>
              <a:ext cx="3218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Meichenbaum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언어적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기교수 프로그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직선 연결선 27"/>
            <p:cNvSpPr/>
            <p:nvPr/>
          </p:nvSpPr>
          <p:spPr>
            <a:xfrm flipV="1">
              <a:off x="5642280" y="3516480"/>
              <a:ext cx="2644560" cy="1080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8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83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41" name="직사각형 26"/>
              <p:cNvSpPr/>
              <p:nvPr/>
            </p:nvSpPr>
            <p:spPr>
              <a:xfrm>
                <a:off x="1295280" y="1385640"/>
                <a:ext cx="24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elf-regul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4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4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9" name="그룹 30"/>
          <p:cNvGrpSpPr/>
          <p:nvPr/>
        </p:nvGrpSpPr>
        <p:grpSpPr>
          <a:xfrm>
            <a:off x="285840" y="2000160"/>
            <a:ext cx="8501040" cy="1785960"/>
            <a:chOff x="285840" y="2000160"/>
            <a:chExt cx="8501040" cy="1785960"/>
          </a:xfrm>
        </p:grpSpPr>
        <p:grpSp>
          <p:nvGrpSpPr>
            <p:cNvPr id="1850" name="그룹 24"/>
            <p:cNvGrpSpPr/>
            <p:nvPr/>
          </p:nvGrpSpPr>
          <p:grpSpPr>
            <a:xfrm>
              <a:off x="285840" y="2000160"/>
              <a:ext cx="8501040" cy="1785960"/>
              <a:chOff x="285840" y="2000160"/>
              <a:chExt cx="8501040" cy="1785960"/>
            </a:xfrm>
          </p:grpSpPr>
          <p:grpSp>
            <p:nvGrpSpPr>
              <p:cNvPr id="1851" name="그룹 91"/>
              <p:cNvGrpSpPr/>
              <p:nvPr/>
            </p:nvGrpSpPr>
            <p:grpSpPr>
              <a:xfrm>
                <a:off x="285840" y="2000160"/>
                <a:ext cx="8286840" cy="1785960"/>
                <a:chOff x="285840" y="2000160"/>
                <a:chExt cx="8286840" cy="1785960"/>
              </a:xfrm>
            </p:grpSpPr>
            <p:pic>
              <p:nvPicPr>
                <p:cNvPr id="1852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85640"/>
                  <a:ext cx="8286840" cy="1500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grpSp>
              <p:nvGrpSpPr>
                <p:cNvPr id="1853" name="그룹 34"/>
                <p:cNvGrpSpPr/>
                <p:nvPr/>
              </p:nvGrpSpPr>
              <p:grpSpPr>
                <a:xfrm>
                  <a:off x="857160" y="2090160"/>
                  <a:ext cx="349200" cy="381240"/>
                  <a:chOff x="857160" y="2090160"/>
                  <a:chExt cx="349200" cy="381240"/>
                </a:xfrm>
              </p:grpSpPr>
              <p:pic>
                <p:nvPicPr>
                  <p:cNvPr id="185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211464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55" name="TextBox 36"/>
                  <p:cNvSpPr/>
                  <p:nvPr/>
                </p:nvSpPr>
                <p:spPr>
                  <a:xfrm>
                    <a:off x="891360" y="20901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6" name="직사각형 38"/>
                <p:cNvSpPr/>
                <p:nvPr/>
              </p:nvSpPr>
              <p:spPr>
                <a:xfrm>
                  <a:off x="121752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7" name="직사각형 34"/>
              <p:cNvSpPr/>
              <p:nvPr/>
            </p:nvSpPr>
            <p:spPr>
              <a:xfrm>
                <a:off x="1143000" y="2571480"/>
                <a:ext cx="7643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목표를 달성하기 위해 사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체계적으로 관리하고 통제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직선 연결선 35"/>
              <p:cNvSpPr/>
              <p:nvPr/>
            </p:nvSpPr>
            <p:spPr>
              <a:xfrm>
                <a:off x="4428360" y="2285640"/>
                <a:ext cx="4002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9" name="오른쪽 화살표 32"/>
            <p:cNvGrpSpPr/>
            <p:nvPr/>
          </p:nvGrpSpPr>
          <p:grpSpPr>
            <a:xfrm>
              <a:off x="883800" y="2664000"/>
              <a:ext cx="359640" cy="316800"/>
              <a:chOff x="883800" y="2664000"/>
              <a:chExt cx="359640" cy="316800"/>
            </a:xfrm>
          </p:grpSpPr>
          <p:pic>
            <p:nvPicPr>
              <p:cNvPr id="1860" name="오른쪽 화살표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883800" y="2664000"/>
                <a:ext cx="359640" cy="31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1" name=""/>
              <p:cNvSpPr/>
              <p:nvPr/>
            </p:nvSpPr>
            <p:spPr>
              <a:xfrm>
                <a:off x="928440" y="2754720"/>
                <a:ext cx="174240" cy="7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2" name="그룹 24"/>
          <p:cNvGrpSpPr/>
          <p:nvPr/>
        </p:nvGrpSpPr>
        <p:grpSpPr>
          <a:xfrm>
            <a:off x="285840" y="4357800"/>
            <a:ext cx="8286840" cy="1714320"/>
            <a:chOff x="285840" y="4357800"/>
            <a:chExt cx="8286840" cy="1714320"/>
          </a:xfrm>
        </p:grpSpPr>
        <p:grpSp>
          <p:nvGrpSpPr>
            <p:cNvPr id="1863" name="그룹 91"/>
            <p:cNvGrpSpPr/>
            <p:nvPr/>
          </p:nvGrpSpPr>
          <p:grpSpPr>
            <a:xfrm>
              <a:off x="285840" y="4357800"/>
              <a:ext cx="8286840" cy="1714320"/>
              <a:chOff x="285840" y="4357800"/>
              <a:chExt cx="8286840" cy="1714320"/>
            </a:xfrm>
          </p:grpSpPr>
          <p:pic>
            <p:nvPicPr>
              <p:cNvPr id="1864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643280"/>
                <a:ext cx="8286840" cy="1428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865" name="그룹 34"/>
              <p:cNvGrpSpPr/>
              <p:nvPr/>
            </p:nvGrpSpPr>
            <p:grpSpPr>
              <a:xfrm>
                <a:off x="857160" y="4447800"/>
                <a:ext cx="349200" cy="381240"/>
                <a:chOff x="857160" y="4447800"/>
                <a:chExt cx="349200" cy="381240"/>
              </a:xfrm>
            </p:grpSpPr>
            <p:pic>
              <p:nvPicPr>
                <p:cNvPr id="186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7" name="TextBox 36"/>
                <p:cNvSpPr/>
                <p:nvPr/>
              </p:nvSpPr>
              <p:spPr>
                <a:xfrm>
                  <a:off x="89136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8" name="직사각형 50"/>
              <p:cNvSpPr/>
              <p:nvPr/>
            </p:nvSpPr>
            <p:spPr>
              <a:xfrm>
                <a:off x="1651680" y="435780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학습의 요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직사각형 46"/>
            <p:cNvSpPr/>
            <p:nvPr/>
          </p:nvSpPr>
          <p:spPr>
            <a:xfrm>
              <a:off x="1143000" y="4857840"/>
              <a:ext cx="7143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설정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계획수립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부여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통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전략활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점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강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평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직선 연결선 47"/>
            <p:cNvSpPr/>
            <p:nvPr/>
          </p:nvSpPr>
          <p:spPr>
            <a:xfrm>
              <a:off x="4428720" y="4643280"/>
              <a:ext cx="4002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1" name="타원 55"/>
          <p:cNvGrpSpPr/>
          <p:nvPr/>
        </p:nvGrpSpPr>
        <p:grpSpPr>
          <a:xfrm>
            <a:off x="933480" y="5029200"/>
            <a:ext cx="225360" cy="231840"/>
            <a:chOff x="933480" y="5029200"/>
            <a:chExt cx="225360" cy="231840"/>
          </a:xfrm>
        </p:grpSpPr>
        <p:pic>
          <p:nvPicPr>
            <p:cNvPr id="1872" name="타원 55" descr=""/>
            <p:cNvPicPr/>
            <p:nvPr/>
          </p:nvPicPr>
          <p:blipFill>
            <a:blip r:embed="rId8"/>
            <a:stretch/>
          </p:blipFill>
          <p:spPr>
            <a:xfrm>
              <a:off x="933480" y="502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3" name=""/>
            <p:cNvSpPr/>
            <p:nvPr/>
          </p:nvSpPr>
          <p:spPr>
            <a:xfrm rot="10800000">
              <a:off x="101448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TextBox 12" descr=""/>
          <p:cNvPicPr/>
          <p:nvPr/>
        </p:nvPicPr>
        <p:blipFill>
          <a:blip r:embed="rId1"/>
          <a:stretch/>
        </p:blipFill>
        <p:spPr>
          <a:xfrm>
            <a:off x="5546880" y="506520"/>
            <a:ext cx="3530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06" name="직사각형 13"/>
              <p:cNvSpPr/>
              <p:nvPr/>
            </p:nvSpPr>
            <p:spPr>
              <a:xfrm>
                <a:off x="1404000" y="1385640"/>
                <a:ext cx="291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주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ism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태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그룹 91"/>
          <p:cNvGrpSpPr/>
          <p:nvPr/>
        </p:nvGrpSpPr>
        <p:grpSpPr>
          <a:xfrm>
            <a:off x="285840" y="1928880"/>
            <a:ext cx="9001080" cy="1071360"/>
            <a:chOff x="285840" y="1928880"/>
            <a:chExt cx="9001080" cy="1071360"/>
          </a:xfrm>
        </p:grpSpPr>
        <p:pic>
          <p:nvPicPr>
            <p:cNvPr id="815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14360"/>
              <a:ext cx="8501040" cy="785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6" name="그룹 34"/>
            <p:cNvGrpSpPr/>
            <p:nvPr/>
          </p:nvGrpSpPr>
          <p:grpSpPr>
            <a:xfrm>
              <a:off x="857160" y="2019240"/>
              <a:ext cx="349200" cy="380520"/>
              <a:chOff x="857160" y="2019240"/>
              <a:chExt cx="349200" cy="380520"/>
            </a:xfrm>
          </p:grpSpPr>
          <p:pic>
            <p:nvPicPr>
              <p:cNvPr id="817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041560"/>
                <a:ext cx="34920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TextBox 36"/>
              <p:cNvSpPr/>
              <p:nvPr/>
            </p:nvSpPr>
            <p:spPr>
              <a:xfrm>
                <a:off x="891360" y="20192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34"/>
            <p:cNvSpPr/>
            <p:nvPr/>
          </p:nvSpPr>
          <p:spPr>
            <a:xfrm>
              <a:off x="1217520" y="192888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직사각형 35"/>
            <p:cNvSpPr/>
            <p:nvPr/>
          </p:nvSpPr>
          <p:spPr>
            <a:xfrm>
              <a:off x="1500120" y="2390760"/>
              <a:ext cx="7786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찰할 수 있는 구체적인 행동을 연구대상으로 하는 심리학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오른쪽 화살표 38"/>
          <p:cNvGrpSpPr/>
          <p:nvPr/>
        </p:nvGrpSpPr>
        <p:grpSpPr>
          <a:xfrm>
            <a:off x="1030320" y="2523960"/>
            <a:ext cx="426960" cy="365400"/>
            <a:chOff x="1030320" y="2523960"/>
            <a:chExt cx="426960" cy="365400"/>
          </a:xfrm>
        </p:grpSpPr>
        <p:pic>
          <p:nvPicPr>
            <p:cNvPr id="822" name="오른쪽 화살표 38" descr=""/>
            <p:cNvPicPr/>
            <p:nvPr/>
          </p:nvPicPr>
          <p:blipFill>
            <a:blip r:embed="rId5"/>
            <a:stretch/>
          </p:blipFill>
          <p:spPr>
            <a:xfrm>
              <a:off x="1030320" y="2523960"/>
              <a:ext cx="42696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1071720" y="2625840"/>
              <a:ext cx="23148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그룹 91"/>
          <p:cNvGrpSpPr/>
          <p:nvPr/>
        </p:nvGrpSpPr>
        <p:grpSpPr>
          <a:xfrm>
            <a:off x="285840" y="3214800"/>
            <a:ext cx="8715240" cy="3214440"/>
            <a:chOff x="285840" y="3214800"/>
            <a:chExt cx="8715240" cy="3214440"/>
          </a:xfrm>
        </p:grpSpPr>
        <p:pic>
          <p:nvPicPr>
            <p:cNvPr id="825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500280"/>
              <a:ext cx="8501040" cy="292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6" name="그룹 34"/>
            <p:cNvGrpSpPr/>
            <p:nvPr/>
          </p:nvGrpSpPr>
          <p:grpSpPr>
            <a:xfrm>
              <a:off x="857160" y="3305160"/>
              <a:ext cx="349200" cy="380520"/>
              <a:chOff x="857160" y="3305160"/>
              <a:chExt cx="349200" cy="380520"/>
            </a:xfrm>
          </p:grpSpPr>
          <p:pic>
            <p:nvPicPr>
              <p:cNvPr id="82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327840"/>
                <a:ext cx="34920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TextBox 36"/>
              <p:cNvSpPr/>
              <p:nvPr/>
            </p:nvSpPr>
            <p:spPr>
              <a:xfrm>
                <a:off x="891360" y="3305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직사각형 42"/>
            <p:cNvSpPr/>
            <p:nvPr/>
          </p:nvSpPr>
          <p:spPr>
            <a:xfrm>
              <a:off x="1217520" y="3214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직사각형 43"/>
            <p:cNvSpPr/>
            <p:nvPr/>
          </p:nvSpPr>
          <p:spPr>
            <a:xfrm>
              <a:off x="1214280" y="3655800"/>
              <a:ext cx="778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학을 관찰할 수 있는 자극과 반응의 관계를 탐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이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과 반응의 중간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lack box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존재한다고 가정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■ </a:t>
              </a:r>
              <a:r>
                <a:rPr b="0" lang="ko-KR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타원 46"/>
          <p:cNvGrpSpPr/>
          <p:nvPr/>
        </p:nvGrpSpPr>
        <p:grpSpPr>
          <a:xfrm>
            <a:off x="1006560" y="3840120"/>
            <a:ext cx="225360" cy="231840"/>
            <a:chOff x="1006560" y="3840120"/>
            <a:chExt cx="225360" cy="231840"/>
          </a:xfrm>
        </p:grpSpPr>
        <p:pic>
          <p:nvPicPr>
            <p:cNvPr id="832" name="타원 46" descr=""/>
            <p:cNvPicPr/>
            <p:nvPr/>
          </p:nvPicPr>
          <p:blipFill>
            <a:blip r:embed="rId8"/>
            <a:stretch/>
          </p:blipFill>
          <p:spPr>
            <a:xfrm>
              <a:off x="1006560" y="384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1085760" y="3897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타원 47"/>
          <p:cNvGrpSpPr/>
          <p:nvPr/>
        </p:nvGrpSpPr>
        <p:grpSpPr>
          <a:xfrm>
            <a:off x="1006560" y="4456080"/>
            <a:ext cx="225360" cy="231840"/>
            <a:chOff x="1006560" y="4456080"/>
            <a:chExt cx="225360" cy="231840"/>
          </a:xfrm>
        </p:grpSpPr>
        <p:pic>
          <p:nvPicPr>
            <p:cNvPr id="835" name="타원 47" descr=""/>
            <p:cNvPicPr/>
            <p:nvPr/>
          </p:nvPicPr>
          <p:blipFill>
            <a:blip r:embed="rId9"/>
            <a:stretch/>
          </p:blipFill>
          <p:spPr>
            <a:xfrm>
              <a:off x="1006560" y="44560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4514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타원 48"/>
          <p:cNvGrpSpPr/>
          <p:nvPr/>
        </p:nvGrpSpPr>
        <p:grpSpPr>
          <a:xfrm>
            <a:off x="1006560" y="4956120"/>
            <a:ext cx="225360" cy="231840"/>
            <a:chOff x="1006560" y="4956120"/>
            <a:chExt cx="225360" cy="231840"/>
          </a:xfrm>
        </p:grpSpPr>
        <p:pic>
          <p:nvPicPr>
            <p:cNvPr id="838" name="타원 48" descr=""/>
            <p:cNvPicPr/>
            <p:nvPr/>
          </p:nvPicPr>
          <p:blipFill>
            <a:blip r:embed="rId10"/>
            <a:stretch/>
          </p:blipFill>
          <p:spPr>
            <a:xfrm>
              <a:off x="1006560" y="4956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 rot="10800000">
              <a:off x="1085760" y="501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슬라이드 번호 개체 틀 2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2898C-9532-4DA7-ACC1-915E281F24F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직사각형 29"/>
          <p:cNvSpPr/>
          <p:nvPr/>
        </p:nvSpPr>
        <p:spPr>
          <a:xfrm>
            <a:off x="1214280" y="4572000"/>
            <a:ext cx="778680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경험이나 연습을 통해서 일어난 행동의 지속적인 변화로 간주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화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행동을 변화시키기 위한 조건을 부여한다는 의미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변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혹은 수정하기 위한 구체적인 절차를 말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이 형성되었다는 말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조건에 반응이 결합되어 학습이 이루어 졌다고 해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4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4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4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절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그룹 27"/>
          <p:cNvGrpSpPr/>
          <p:nvPr/>
        </p:nvGrpSpPr>
        <p:grpSpPr>
          <a:xfrm>
            <a:off x="285840" y="1928880"/>
            <a:ext cx="8501040" cy="1571400"/>
            <a:chOff x="285840" y="1928880"/>
            <a:chExt cx="8501040" cy="1571400"/>
          </a:xfrm>
        </p:grpSpPr>
        <p:grpSp>
          <p:nvGrpSpPr>
            <p:cNvPr id="854" name="그룹 91"/>
            <p:cNvGrpSpPr/>
            <p:nvPr/>
          </p:nvGrpSpPr>
          <p:grpSpPr>
            <a:xfrm>
              <a:off x="285840" y="1928880"/>
              <a:ext cx="8501040" cy="1571400"/>
              <a:chOff x="285840" y="1928880"/>
              <a:chExt cx="8501040" cy="1571400"/>
            </a:xfrm>
          </p:grpSpPr>
          <p:pic>
            <p:nvPicPr>
              <p:cNvPr id="85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12859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856" name="그룹 34"/>
              <p:cNvGrpSpPr/>
              <p:nvPr/>
            </p:nvGrpSpPr>
            <p:grpSpPr>
              <a:xfrm>
                <a:off x="838080" y="2019240"/>
                <a:ext cx="374760" cy="380880"/>
                <a:chOff x="838080" y="2019240"/>
                <a:chExt cx="374760" cy="380880"/>
              </a:xfrm>
            </p:grpSpPr>
            <p:pic>
              <p:nvPicPr>
                <p:cNvPr id="85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3200" y="2047320"/>
                  <a:ext cx="35964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8" name="TextBox 36"/>
                <p:cNvSpPr/>
                <p:nvPr/>
              </p:nvSpPr>
              <p:spPr>
                <a:xfrm>
                  <a:off x="838080" y="201924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직사각형 17"/>
              <p:cNvSpPr/>
              <p:nvPr/>
            </p:nvSpPr>
            <p:spPr>
              <a:xfrm>
                <a:off x="1606320" y="1928880"/>
                <a:ext cx="35179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lass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nditio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직사각형 18"/>
              <p:cNvSpPr/>
              <p:nvPr/>
            </p:nvSpPr>
            <p:spPr>
              <a:xfrm>
                <a:off x="1214280" y="2462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립자극이 무조건 자극의 기능을 획득하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동조건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Pavlov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개를 대상으로 한 실험에서 확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직선 연결선 19"/>
              <p:cNvSpPr/>
              <p:nvPr/>
            </p:nvSpPr>
            <p:spPr>
              <a:xfrm>
                <a:off x="5857920" y="2212920"/>
                <a:ext cx="25016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타원 25"/>
            <p:cNvGrpSpPr/>
            <p:nvPr/>
          </p:nvGrpSpPr>
          <p:grpSpPr>
            <a:xfrm>
              <a:off x="1005840" y="2645640"/>
              <a:ext cx="225360" cy="231480"/>
              <a:chOff x="1005840" y="2645640"/>
              <a:chExt cx="225360" cy="231480"/>
            </a:xfrm>
          </p:grpSpPr>
          <p:pic>
            <p:nvPicPr>
              <p:cNvPr id="863" name="타원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4" name=""/>
              <p:cNvSpPr/>
              <p:nvPr/>
            </p:nvSpPr>
            <p:spPr>
              <a:xfrm rot="10800000">
                <a:off x="10857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타원 26"/>
            <p:cNvGrpSpPr/>
            <p:nvPr/>
          </p:nvGrpSpPr>
          <p:grpSpPr>
            <a:xfrm>
              <a:off x="1005840" y="3072240"/>
              <a:ext cx="225360" cy="231480"/>
              <a:chOff x="1005840" y="3072240"/>
              <a:chExt cx="225360" cy="231480"/>
            </a:xfrm>
          </p:grpSpPr>
          <p:pic>
            <p:nvPicPr>
              <p:cNvPr id="866" name="타원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1005840" y="3072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085760" y="3130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868" name=""/>
          <p:cNvGraphicFramePr/>
          <p:nvPr/>
        </p:nvGraphicFramePr>
        <p:xfrm>
          <a:off x="714240" y="3786120"/>
          <a:ext cx="8001000" cy="264312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</a:tr>
              <a:tr h="22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869" name="AutoShape 93"/>
          <p:cNvSpPr/>
          <p:nvPr/>
        </p:nvSpPr>
        <p:spPr>
          <a:xfrm>
            <a:off x="10001160" y="6467400"/>
            <a:ext cx="1816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그룹 248"/>
          <p:cNvGrpSpPr/>
          <p:nvPr/>
        </p:nvGrpSpPr>
        <p:grpSpPr>
          <a:xfrm>
            <a:off x="1000080" y="4286160"/>
            <a:ext cx="2224440" cy="2092320"/>
            <a:chOff x="1000080" y="4286160"/>
            <a:chExt cx="2224440" cy="2092320"/>
          </a:xfrm>
        </p:grpSpPr>
        <p:grpSp>
          <p:nvGrpSpPr>
            <p:cNvPr id="871" name="그룹 94"/>
            <p:cNvGrpSpPr/>
            <p:nvPr/>
          </p:nvGrpSpPr>
          <p:grpSpPr>
            <a:xfrm>
              <a:off x="1000080" y="5501160"/>
              <a:ext cx="905040" cy="365040"/>
              <a:chOff x="1000080" y="5501160"/>
              <a:chExt cx="905040" cy="365040"/>
            </a:xfrm>
          </p:grpSpPr>
          <p:sp>
            <p:nvSpPr>
              <p:cNvPr id="872" name="Freeform 18"/>
              <p:cNvSpPr/>
              <p:nvPr/>
            </p:nvSpPr>
            <p:spPr>
              <a:xfrm>
                <a:off x="1170000" y="554004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54"/>
              <p:cNvSpPr/>
              <p:nvPr/>
            </p:nvSpPr>
            <p:spPr>
              <a:xfrm>
                <a:off x="1000080" y="555624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55"/>
              <p:cNvSpPr/>
              <p:nvPr/>
            </p:nvSpPr>
            <p:spPr>
              <a:xfrm>
                <a:off x="1000080" y="553140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56"/>
              <p:cNvSpPr/>
              <p:nvPr/>
            </p:nvSpPr>
            <p:spPr>
              <a:xfrm>
                <a:off x="1125360" y="558828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69"/>
              <p:cNvSpPr/>
              <p:nvPr/>
            </p:nvSpPr>
            <p:spPr>
              <a:xfrm>
                <a:off x="1150560" y="553788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70"/>
              <p:cNvSpPr/>
              <p:nvPr/>
            </p:nvSpPr>
            <p:spPr>
              <a:xfrm>
                <a:off x="1157040" y="550800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71"/>
              <p:cNvSpPr/>
              <p:nvPr/>
            </p:nvSpPr>
            <p:spPr>
              <a:xfrm>
                <a:off x="1158120" y="550116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72"/>
              <p:cNvSpPr/>
              <p:nvPr/>
            </p:nvSpPr>
            <p:spPr>
              <a:xfrm>
                <a:off x="1395720" y="574740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113"/>
            <p:cNvGrpSpPr/>
            <p:nvPr/>
          </p:nvGrpSpPr>
          <p:grpSpPr>
            <a:xfrm>
              <a:off x="1214280" y="4286160"/>
              <a:ext cx="429480" cy="500040"/>
              <a:chOff x="1214280" y="4286160"/>
              <a:chExt cx="429480" cy="500040"/>
            </a:xfrm>
          </p:grpSpPr>
          <p:sp>
            <p:nvSpPr>
              <p:cNvPr id="881" name="Freeform 80"/>
              <p:cNvSpPr/>
              <p:nvPr/>
            </p:nvSpPr>
            <p:spPr>
              <a:xfrm>
                <a:off x="1260720" y="433116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81"/>
              <p:cNvSpPr/>
              <p:nvPr/>
            </p:nvSpPr>
            <p:spPr>
              <a:xfrm>
                <a:off x="1300680" y="436104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82"/>
              <p:cNvSpPr/>
              <p:nvPr/>
            </p:nvSpPr>
            <p:spPr>
              <a:xfrm>
                <a:off x="1481400" y="438228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83"/>
              <p:cNvSpPr/>
              <p:nvPr/>
            </p:nvSpPr>
            <p:spPr>
              <a:xfrm>
                <a:off x="1214280" y="456120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84"/>
              <p:cNvSpPr/>
              <p:nvPr/>
            </p:nvSpPr>
            <p:spPr>
              <a:xfrm>
                <a:off x="1520640" y="428616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85"/>
              <p:cNvSpPr/>
              <p:nvPr/>
            </p:nvSpPr>
            <p:spPr>
              <a:xfrm>
                <a:off x="1543320" y="430848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86"/>
              <p:cNvSpPr/>
              <p:nvPr/>
            </p:nvSpPr>
            <p:spPr>
              <a:xfrm>
                <a:off x="1264320" y="461232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87"/>
              <p:cNvSpPr/>
              <p:nvPr/>
            </p:nvSpPr>
            <p:spPr>
              <a:xfrm>
                <a:off x="1421640" y="465660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88"/>
              <p:cNvSpPr/>
              <p:nvPr/>
            </p:nvSpPr>
            <p:spPr>
              <a:xfrm>
                <a:off x="1442160" y="466632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89"/>
              <p:cNvSpPr/>
              <p:nvPr/>
            </p:nvSpPr>
            <p:spPr>
              <a:xfrm>
                <a:off x="1349640" y="438228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90"/>
              <p:cNvSpPr/>
              <p:nvPr/>
            </p:nvSpPr>
            <p:spPr>
              <a:xfrm>
                <a:off x="1235880" y="458100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91"/>
              <p:cNvSpPr/>
              <p:nvPr/>
            </p:nvSpPr>
            <p:spPr>
              <a:xfrm>
                <a:off x="1552320" y="431064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그룹 146"/>
            <p:cNvGrpSpPr/>
            <p:nvPr/>
          </p:nvGrpSpPr>
          <p:grpSpPr>
            <a:xfrm>
              <a:off x="2643480" y="4357440"/>
              <a:ext cx="478800" cy="395280"/>
              <a:chOff x="2643480" y="4357440"/>
              <a:chExt cx="478800" cy="395280"/>
            </a:xfrm>
          </p:grpSpPr>
          <p:sp>
            <p:nvSpPr>
              <p:cNvPr id="894" name="Freeform 95"/>
              <p:cNvSpPr/>
              <p:nvPr/>
            </p:nvSpPr>
            <p:spPr>
              <a:xfrm>
                <a:off x="2665080" y="436392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96"/>
              <p:cNvSpPr/>
              <p:nvPr/>
            </p:nvSpPr>
            <p:spPr>
              <a:xfrm>
                <a:off x="2658240" y="435744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97"/>
              <p:cNvSpPr/>
              <p:nvPr/>
            </p:nvSpPr>
            <p:spPr>
              <a:xfrm>
                <a:off x="2785320" y="45810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98"/>
              <p:cNvSpPr/>
              <p:nvPr/>
            </p:nvSpPr>
            <p:spPr>
              <a:xfrm>
                <a:off x="2865240" y="466956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99"/>
              <p:cNvSpPr/>
              <p:nvPr/>
            </p:nvSpPr>
            <p:spPr>
              <a:xfrm>
                <a:off x="2778480" y="45741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00"/>
              <p:cNvSpPr/>
              <p:nvPr/>
            </p:nvSpPr>
            <p:spPr>
              <a:xfrm>
                <a:off x="2828520" y="46512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01"/>
              <p:cNvSpPr/>
              <p:nvPr/>
            </p:nvSpPr>
            <p:spPr>
              <a:xfrm>
                <a:off x="2786760" y="44823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02"/>
              <p:cNvSpPr/>
              <p:nvPr/>
            </p:nvSpPr>
            <p:spPr>
              <a:xfrm>
                <a:off x="2928960" y="44823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03"/>
              <p:cNvSpPr/>
              <p:nvPr/>
            </p:nvSpPr>
            <p:spPr>
              <a:xfrm>
                <a:off x="2841840" y="46076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04"/>
              <p:cNvSpPr/>
              <p:nvPr/>
            </p:nvSpPr>
            <p:spPr>
              <a:xfrm>
                <a:off x="2835360" y="46011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05"/>
              <p:cNvSpPr/>
              <p:nvPr/>
            </p:nvSpPr>
            <p:spPr>
              <a:xfrm>
                <a:off x="264996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06"/>
              <p:cNvSpPr/>
              <p:nvPr/>
            </p:nvSpPr>
            <p:spPr>
              <a:xfrm>
                <a:off x="264348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07"/>
              <p:cNvSpPr/>
              <p:nvPr/>
            </p:nvSpPr>
            <p:spPr>
              <a:xfrm>
                <a:off x="2733480" y="43873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08"/>
              <p:cNvSpPr/>
              <p:nvPr/>
            </p:nvSpPr>
            <p:spPr>
              <a:xfrm>
                <a:off x="300384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09"/>
              <p:cNvSpPr/>
              <p:nvPr/>
            </p:nvSpPr>
            <p:spPr>
              <a:xfrm>
                <a:off x="299736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10"/>
              <p:cNvSpPr/>
              <p:nvPr/>
            </p:nvSpPr>
            <p:spPr>
              <a:xfrm>
                <a:off x="2997360" y="43873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그룹 147"/>
            <p:cNvGrpSpPr/>
            <p:nvPr/>
          </p:nvGrpSpPr>
          <p:grpSpPr>
            <a:xfrm>
              <a:off x="2593440" y="5429520"/>
              <a:ext cx="478800" cy="395280"/>
              <a:chOff x="2593440" y="5429520"/>
              <a:chExt cx="478800" cy="395280"/>
            </a:xfrm>
          </p:grpSpPr>
          <p:sp>
            <p:nvSpPr>
              <p:cNvPr id="911" name="Freeform 95"/>
              <p:cNvSpPr/>
              <p:nvPr/>
            </p:nvSpPr>
            <p:spPr>
              <a:xfrm>
                <a:off x="2615040" y="543600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96"/>
              <p:cNvSpPr/>
              <p:nvPr/>
            </p:nvSpPr>
            <p:spPr>
              <a:xfrm>
                <a:off x="2608200" y="542952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97"/>
              <p:cNvSpPr/>
              <p:nvPr/>
            </p:nvSpPr>
            <p:spPr>
              <a:xfrm>
                <a:off x="2735280" y="565308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98"/>
              <p:cNvSpPr/>
              <p:nvPr/>
            </p:nvSpPr>
            <p:spPr>
              <a:xfrm>
                <a:off x="2815200" y="574164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99"/>
              <p:cNvSpPr/>
              <p:nvPr/>
            </p:nvSpPr>
            <p:spPr>
              <a:xfrm>
                <a:off x="2728440" y="564624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100"/>
              <p:cNvSpPr/>
              <p:nvPr/>
            </p:nvSpPr>
            <p:spPr>
              <a:xfrm>
                <a:off x="2778480" y="572328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101"/>
              <p:cNvSpPr/>
              <p:nvPr/>
            </p:nvSpPr>
            <p:spPr>
              <a:xfrm>
                <a:off x="2736720" y="555444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02"/>
              <p:cNvSpPr/>
              <p:nvPr/>
            </p:nvSpPr>
            <p:spPr>
              <a:xfrm>
                <a:off x="2878920" y="555444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103"/>
              <p:cNvSpPr/>
              <p:nvPr/>
            </p:nvSpPr>
            <p:spPr>
              <a:xfrm>
                <a:off x="2791800" y="567972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104"/>
              <p:cNvSpPr/>
              <p:nvPr/>
            </p:nvSpPr>
            <p:spPr>
              <a:xfrm>
                <a:off x="2785320" y="567324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05"/>
              <p:cNvSpPr/>
              <p:nvPr/>
            </p:nvSpPr>
            <p:spPr>
              <a:xfrm>
                <a:off x="259992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106"/>
              <p:cNvSpPr/>
              <p:nvPr/>
            </p:nvSpPr>
            <p:spPr>
              <a:xfrm>
                <a:off x="259344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107"/>
              <p:cNvSpPr/>
              <p:nvPr/>
            </p:nvSpPr>
            <p:spPr>
              <a:xfrm>
                <a:off x="2683440" y="545940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08"/>
              <p:cNvSpPr/>
              <p:nvPr/>
            </p:nvSpPr>
            <p:spPr>
              <a:xfrm>
                <a:off x="295380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09"/>
              <p:cNvSpPr/>
              <p:nvPr/>
            </p:nvSpPr>
            <p:spPr>
              <a:xfrm>
                <a:off x="294732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110"/>
              <p:cNvSpPr/>
              <p:nvPr/>
            </p:nvSpPr>
            <p:spPr>
              <a:xfrm>
                <a:off x="2947320" y="545940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TextBox 164"/>
            <p:cNvSpPr/>
            <p:nvPr/>
          </p:nvSpPr>
          <p:spPr>
            <a:xfrm>
              <a:off x="1112400" y="483444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Box 165"/>
            <p:cNvSpPr/>
            <p:nvPr/>
          </p:nvSpPr>
          <p:spPr>
            <a:xfrm>
              <a:off x="2584080" y="4834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없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오른쪽 화살표 166"/>
            <p:cNvSpPr/>
            <p:nvPr/>
          </p:nvSpPr>
          <p:spPr>
            <a:xfrm>
              <a:off x="1928880" y="457164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오른쪽 화살표 167"/>
            <p:cNvSpPr/>
            <p:nvPr/>
          </p:nvSpPr>
          <p:spPr>
            <a:xfrm>
              <a:off x="1928880" y="564372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Box 168"/>
            <p:cNvSpPr/>
            <p:nvPr/>
          </p:nvSpPr>
          <p:spPr>
            <a:xfrm>
              <a:off x="1103760" y="5858280"/>
              <a:ext cx="71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기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Box 169"/>
            <p:cNvSpPr/>
            <p:nvPr/>
          </p:nvSpPr>
          <p:spPr>
            <a:xfrm>
              <a:off x="2425680" y="58582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그룹 249"/>
          <p:cNvGrpSpPr/>
          <p:nvPr/>
        </p:nvGrpSpPr>
        <p:grpSpPr>
          <a:xfrm>
            <a:off x="3595320" y="4357800"/>
            <a:ext cx="2343600" cy="2021760"/>
            <a:chOff x="3595320" y="4357800"/>
            <a:chExt cx="2343600" cy="2021760"/>
          </a:xfrm>
        </p:grpSpPr>
        <p:grpSp>
          <p:nvGrpSpPr>
            <p:cNvPr id="934" name="그룹 170"/>
            <p:cNvGrpSpPr/>
            <p:nvPr/>
          </p:nvGrpSpPr>
          <p:grpSpPr>
            <a:xfrm>
              <a:off x="3595320" y="5707440"/>
              <a:ext cx="905040" cy="365040"/>
              <a:chOff x="3595320" y="5707440"/>
              <a:chExt cx="905040" cy="365040"/>
            </a:xfrm>
          </p:grpSpPr>
          <p:sp>
            <p:nvSpPr>
              <p:cNvPr id="935" name="Freeform 18"/>
              <p:cNvSpPr/>
              <p:nvPr/>
            </p:nvSpPr>
            <p:spPr>
              <a:xfrm>
                <a:off x="3765240" y="574632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4"/>
              <p:cNvSpPr/>
              <p:nvPr/>
            </p:nvSpPr>
            <p:spPr>
              <a:xfrm>
                <a:off x="3595320" y="576252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5"/>
              <p:cNvSpPr/>
              <p:nvPr/>
            </p:nvSpPr>
            <p:spPr>
              <a:xfrm>
                <a:off x="3595320" y="573768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6"/>
              <p:cNvSpPr/>
              <p:nvPr/>
            </p:nvSpPr>
            <p:spPr>
              <a:xfrm>
                <a:off x="3720600" y="579456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69"/>
              <p:cNvSpPr/>
              <p:nvPr/>
            </p:nvSpPr>
            <p:spPr>
              <a:xfrm>
                <a:off x="3745800" y="574416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70"/>
              <p:cNvSpPr/>
              <p:nvPr/>
            </p:nvSpPr>
            <p:spPr>
              <a:xfrm>
                <a:off x="3752280" y="571428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71"/>
              <p:cNvSpPr/>
              <p:nvPr/>
            </p:nvSpPr>
            <p:spPr>
              <a:xfrm>
                <a:off x="3753360" y="570744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72"/>
              <p:cNvSpPr/>
              <p:nvPr/>
            </p:nvSpPr>
            <p:spPr>
              <a:xfrm>
                <a:off x="3990960" y="595368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3" name="그룹 179"/>
            <p:cNvGrpSpPr/>
            <p:nvPr/>
          </p:nvGrpSpPr>
          <p:grpSpPr>
            <a:xfrm>
              <a:off x="3786120" y="4357800"/>
              <a:ext cx="429480" cy="500040"/>
              <a:chOff x="3786120" y="4357800"/>
              <a:chExt cx="429480" cy="500040"/>
            </a:xfrm>
          </p:grpSpPr>
          <p:sp>
            <p:nvSpPr>
              <p:cNvPr id="944" name="Freeform 80"/>
              <p:cNvSpPr/>
              <p:nvPr/>
            </p:nvSpPr>
            <p:spPr>
              <a:xfrm>
                <a:off x="3832560" y="44028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81"/>
              <p:cNvSpPr/>
              <p:nvPr/>
            </p:nvSpPr>
            <p:spPr>
              <a:xfrm>
                <a:off x="3872520" y="44326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82"/>
              <p:cNvSpPr/>
              <p:nvPr/>
            </p:nvSpPr>
            <p:spPr>
              <a:xfrm>
                <a:off x="4053240" y="44539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83"/>
              <p:cNvSpPr/>
              <p:nvPr/>
            </p:nvSpPr>
            <p:spPr>
              <a:xfrm>
                <a:off x="3786120" y="46328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84"/>
              <p:cNvSpPr/>
              <p:nvPr/>
            </p:nvSpPr>
            <p:spPr>
              <a:xfrm>
                <a:off x="4092480" y="43578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85"/>
              <p:cNvSpPr/>
              <p:nvPr/>
            </p:nvSpPr>
            <p:spPr>
              <a:xfrm>
                <a:off x="4115160" y="43801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86"/>
              <p:cNvSpPr/>
              <p:nvPr/>
            </p:nvSpPr>
            <p:spPr>
              <a:xfrm>
                <a:off x="3836160" y="46839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87"/>
              <p:cNvSpPr/>
              <p:nvPr/>
            </p:nvSpPr>
            <p:spPr>
              <a:xfrm>
                <a:off x="3993480" y="47282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88"/>
              <p:cNvSpPr/>
              <p:nvPr/>
            </p:nvSpPr>
            <p:spPr>
              <a:xfrm>
                <a:off x="4014000" y="47379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89"/>
              <p:cNvSpPr/>
              <p:nvPr/>
            </p:nvSpPr>
            <p:spPr>
              <a:xfrm>
                <a:off x="3921480" y="44539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90"/>
              <p:cNvSpPr/>
              <p:nvPr/>
            </p:nvSpPr>
            <p:spPr>
              <a:xfrm>
                <a:off x="3807720" y="46526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91"/>
              <p:cNvSpPr/>
              <p:nvPr/>
            </p:nvSpPr>
            <p:spPr>
              <a:xfrm>
                <a:off x="4124160" y="43822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덧셈 기호 192"/>
            <p:cNvSpPr/>
            <p:nvPr/>
          </p:nvSpPr>
          <p:spPr>
            <a:xfrm>
              <a:off x="3857400" y="5214960"/>
              <a:ext cx="357120" cy="357120"/>
            </a:xfrm>
            <a:prstGeom prst="pi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Box 193"/>
            <p:cNvSpPr/>
            <p:nvPr/>
          </p:nvSpPr>
          <p:spPr>
            <a:xfrm>
              <a:off x="3737880" y="48578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Box 194"/>
            <p:cNvSpPr/>
            <p:nvPr/>
          </p:nvSpPr>
          <p:spPr>
            <a:xfrm>
              <a:off x="3675600" y="6072480"/>
              <a:ext cx="7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9" name="그룹 195"/>
            <p:cNvGrpSpPr/>
            <p:nvPr/>
          </p:nvGrpSpPr>
          <p:grpSpPr>
            <a:xfrm>
              <a:off x="5307840" y="5120640"/>
              <a:ext cx="478440" cy="395280"/>
              <a:chOff x="5307840" y="5120640"/>
              <a:chExt cx="478440" cy="395280"/>
            </a:xfrm>
          </p:grpSpPr>
          <p:sp>
            <p:nvSpPr>
              <p:cNvPr id="960" name="Freeform 95"/>
              <p:cNvSpPr/>
              <p:nvPr/>
            </p:nvSpPr>
            <p:spPr>
              <a:xfrm>
                <a:off x="5329440" y="5127120"/>
                <a:ext cx="43524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96"/>
              <p:cNvSpPr/>
              <p:nvPr/>
            </p:nvSpPr>
            <p:spPr>
              <a:xfrm>
                <a:off x="5322600" y="5120640"/>
                <a:ext cx="44856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97"/>
              <p:cNvSpPr/>
              <p:nvPr/>
            </p:nvSpPr>
            <p:spPr>
              <a:xfrm>
                <a:off x="5449320" y="53442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98"/>
              <p:cNvSpPr/>
              <p:nvPr/>
            </p:nvSpPr>
            <p:spPr>
              <a:xfrm>
                <a:off x="5529600" y="5432760"/>
                <a:ext cx="3636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99"/>
              <p:cNvSpPr/>
              <p:nvPr/>
            </p:nvSpPr>
            <p:spPr>
              <a:xfrm>
                <a:off x="5442840" y="53373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100"/>
              <p:cNvSpPr/>
              <p:nvPr/>
            </p:nvSpPr>
            <p:spPr>
              <a:xfrm>
                <a:off x="5492880" y="54144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101"/>
              <p:cNvSpPr/>
              <p:nvPr/>
            </p:nvSpPr>
            <p:spPr>
              <a:xfrm>
                <a:off x="5451120" y="52455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102"/>
              <p:cNvSpPr/>
              <p:nvPr/>
            </p:nvSpPr>
            <p:spPr>
              <a:xfrm>
                <a:off x="5592960" y="52455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103"/>
              <p:cNvSpPr/>
              <p:nvPr/>
            </p:nvSpPr>
            <p:spPr>
              <a:xfrm>
                <a:off x="5506200" y="53708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104"/>
              <p:cNvSpPr/>
              <p:nvPr/>
            </p:nvSpPr>
            <p:spPr>
              <a:xfrm>
                <a:off x="5499360" y="53643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105"/>
              <p:cNvSpPr/>
              <p:nvPr/>
            </p:nvSpPr>
            <p:spPr>
              <a:xfrm>
                <a:off x="531432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106"/>
              <p:cNvSpPr/>
              <p:nvPr/>
            </p:nvSpPr>
            <p:spPr>
              <a:xfrm>
                <a:off x="530784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107"/>
              <p:cNvSpPr/>
              <p:nvPr/>
            </p:nvSpPr>
            <p:spPr>
              <a:xfrm>
                <a:off x="5397840" y="51505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08"/>
              <p:cNvSpPr/>
              <p:nvPr/>
            </p:nvSpPr>
            <p:spPr>
              <a:xfrm>
                <a:off x="566784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09"/>
              <p:cNvSpPr/>
              <p:nvPr/>
            </p:nvSpPr>
            <p:spPr>
              <a:xfrm>
                <a:off x="566136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10"/>
              <p:cNvSpPr/>
              <p:nvPr/>
            </p:nvSpPr>
            <p:spPr>
              <a:xfrm>
                <a:off x="5661360" y="51505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6" name="오른쪽 화살표 212"/>
            <p:cNvSpPr/>
            <p:nvPr/>
          </p:nvSpPr>
          <p:spPr>
            <a:xfrm>
              <a:off x="4643280" y="533412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Box 213"/>
            <p:cNvSpPr/>
            <p:nvPr/>
          </p:nvSpPr>
          <p:spPr>
            <a:xfrm>
              <a:off x="5140080" y="554940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Box 214"/>
            <p:cNvSpPr/>
            <p:nvPr/>
          </p:nvSpPr>
          <p:spPr>
            <a:xfrm>
              <a:off x="4685760" y="50500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그룹 250"/>
          <p:cNvGrpSpPr/>
          <p:nvPr/>
        </p:nvGrpSpPr>
        <p:grpSpPr>
          <a:xfrm>
            <a:off x="6327720" y="4786200"/>
            <a:ext cx="2167200" cy="1068480"/>
            <a:chOff x="6327720" y="4786200"/>
            <a:chExt cx="2167200" cy="1068480"/>
          </a:xfrm>
        </p:grpSpPr>
        <p:grpSp>
          <p:nvGrpSpPr>
            <p:cNvPr id="980" name="그룹 215"/>
            <p:cNvGrpSpPr/>
            <p:nvPr/>
          </p:nvGrpSpPr>
          <p:grpSpPr>
            <a:xfrm>
              <a:off x="6429240" y="4786200"/>
              <a:ext cx="429480" cy="500040"/>
              <a:chOff x="6429240" y="4786200"/>
              <a:chExt cx="429480" cy="500040"/>
            </a:xfrm>
          </p:grpSpPr>
          <p:sp>
            <p:nvSpPr>
              <p:cNvPr id="981" name="Freeform 80"/>
              <p:cNvSpPr/>
              <p:nvPr/>
            </p:nvSpPr>
            <p:spPr>
              <a:xfrm>
                <a:off x="6475680" y="48312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81"/>
              <p:cNvSpPr/>
              <p:nvPr/>
            </p:nvSpPr>
            <p:spPr>
              <a:xfrm>
                <a:off x="6515640" y="48610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82"/>
              <p:cNvSpPr/>
              <p:nvPr/>
            </p:nvSpPr>
            <p:spPr>
              <a:xfrm>
                <a:off x="6696360" y="48823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83"/>
              <p:cNvSpPr/>
              <p:nvPr/>
            </p:nvSpPr>
            <p:spPr>
              <a:xfrm>
                <a:off x="6429240" y="50612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84"/>
              <p:cNvSpPr/>
              <p:nvPr/>
            </p:nvSpPr>
            <p:spPr>
              <a:xfrm>
                <a:off x="6735600" y="47862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85"/>
              <p:cNvSpPr/>
              <p:nvPr/>
            </p:nvSpPr>
            <p:spPr>
              <a:xfrm>
                <a:off x="6758280" y="48085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86"/>
              <p:cNvSpPr/>
              <p:nvPr/>
            </p:nvSpPr>
            <p:spPr>
              <a:xfrm>
                <a:off x="6479280" y="51123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87"/>
              <p:cNvSpPr/>
              <p:nvPr/>
            </p:nvSpPr>
            <p:spPr>
              <a:xfrm>
                <a:off x="6636600" y="51566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88"/>
              <p:cNvSpPr/>
              <p:nvPr/>
            </p:nvSpPr>
            <p:spPr>
              <a:xfrm>
                <a:off x="6657120" y="51663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89"/>
              <p:cNvSpPr/>
              <p:nvPr/>
            </p:nvSpPr>
            <p:spPr>
              <a:xfrm>
                <a:off x="6564600" y="48823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90"/>
              <p:cNvSpPr/>
              <p:nvPr/>
            </p:nvSpPr>
            <p:spPr>
              <a:xfrm>
                <a:off x="6450840" y="50810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91"/>
              <p:cNvSpPr/>
              <p:nvPr/>
            </p:nvSpPr>
            <p:spPr>
              <a:xfrm>
                <a:off x="6767280" y="48106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그룹 228"/>
            <p:cNvGrpSpPr/>
            <p:nvPr/>
          </p:nvGrpSpPr>
          <p:grpSpPr>
            <a:xfrm>
              <a:off x="7858440" y="4857480"/>
              <a:ext cx="478800" cy="395280"/>
              <a:chOff x="7858440" y="4857480"/>
              <a:chExt cx="478800" cy="395280"/>
            </a:xfrm>
          </p:grpSpPr>
          <p:sp>
            <p:nvSpPr>
              <p:cNvPr id="994" name="Freeform 95"/>
              <p:cNvSpPr/>
              <p:nvPr/>
            </p:nvSpPr>
            <p:spPr>
              <a:xfrm>
                <a:off x="7880040" y="486396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96"/>
              <p:cNvSpPr/>
              <p:nvPr/>
            </p:nvSpPr>
            <p:spPr>
              <a:xfrm>
                <a:off x="7873200" y="485748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97"/>
              <p:cNvSpPr/>
              <p:nvPr/>
            </p:nvSpPr>
            <p:spPr>
              <a:xfrm>
                <a:off x="8000280" y="508104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98"/>
              <p:cNvSpPr/>
              <p:nvPr/>
            </p:nvSpPr>
            <p:spPr>
              <a:xfrm>
                <a:off x="8080200" y="516960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99"/>
              <p:cNvSpPr/>
              <p:nvPr/>
            </p:nvSpPr>
            <p:spPr>
              <a:xfrm>
                <a:off x="7993440" y="507420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100"/>
              <p:cNvSpPr/>
              <p:nvPr/>
            </p:nvSpPr>
            <p:spPr>
              <a:xfrm>
                <a:off x="8043480" y="515124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101"/>
              <p:cNvSpPr/>
              <p:nvPr/>
            </p:nvSpPr>
            <p:spPr>
              <a:xfrm>
                <a:off x="8001720" y="498240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102"/>
              <p:cNvSpPr/>
              <p:nvPr/>
            </p:nvSpPr>
            <p:spPr>
              <a:xfrm>
                <a:off x="8143920" y="498240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103"/>
              <p:cNvSpPr/>
              <p:nvPr/>
            </p:nvSpPr>
            <p:spPr>
              <a:xfrm>
                <a:off x="8056800" y="510768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104"/>
              <p:cNvSpPr/>
              <p:nvPr/>
            </p:nvSpPr>
            <p:spPr>
              <a:xfrm>
                <a:off x="8050320" y="510120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105"/>
              <p:cNvSpPr/>
              <p:nvPr/>
            </p:nvSpPr>
            <p:spPr>
              <a:xfrm>
                <a:off x="786492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106"/>
              <p:cNvSpPr/>
              <p:nvPr/>
            </p:nvSpPr>
            <p:spPr>
              <a:xfrm>
                <a:off x="785844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107"/>
              <p:cNvSpPr/>
              <p:nvPr/>
            </p:nvSpPr>
            <p:spPr>
              <a:xfrm>
                <a:off x="7948440" y="488736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108"/>
              <p:cNvSpPr/>
              <p:nvPr/>
            </p:nvSpPr>
            <p:spPr>
              <a:xfrm>
                <a:off x="821880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109"/>
              <p:cNvSpPr/>
              <p:nvPr/>
            </p:nvSpPr>
            <p:spPr>
              <a:xfrm>
                <a:off x="821232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110"/>
              <p:cNvSpPr/>
              <p:nvPr/>
            </p:nvSpPr>
            <p:spPr>
              <a:xfrm>
                <a:off x="8212320" y="488736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0" name="TextBox 245"/>
            <p:cNvSpPr/>
            <p:nvPr/>
          </p:nvSpPr>
          <p:spPr>
            <a:xfrm>
              <a:off x="6327720" y="533448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Box 246"/>
            <p:cNvSpPr/>
            <p:nvPr/>
          </p:nvSpPr>
          <p:spPr>
            <a:xfrm>
              <a:off x="7696080" y="53344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오른쪽 화살표 247"/>
            <p:cNvSpPr/>
            <p:nvPr/>
          </p:nvSpPr>
          <p:spPr>
            <a:xfrm>
              <a:off x="7143840" y="507204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슬라이드 번호 개체 틀 16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4DA97-2D19-4E1E-83B7-13B5779FF8A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1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0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17" name="직사각형 13"/>
              <p:cNvSpPr/>
              <p:nvPr/>
            </p:nvSpPr>
            <p:spPr>
              <a:xfrm>
                <a:off x="170280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주요 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그룹 64"/>
          <p:cNvGrpSpPr/>
          <p:nvPr/>
        </p:nvGrpSpPr>
        <p:grpSpPr>
          <a:xfrm>
            <a:off x="285840" y="2000160"/>
            <a:ext cx="8501040" cy="1643040"/>
            <a:chOff x="285840" y="2000160"/>
            <a:chExt cx="8501040" cy="1643040"/>
          </a:xfrm>
        </p:grpSpPr>
        <p:grpSp>
          <p:nvGrpSpPr>
            <p:cNvPr id="1026" name="그룹 37"/>
            <p:cNvGrpSpPr/>
            <p:nvPr/>
          </p:nvGrpSpPr>
          <p:grpSpPr>
            <a:xfrm>
              <a:off x="285840" y="2000160"/>
              <a:ext cx="8501040" cy="1643040"/>
              <a:chOff x="285840" y="2000160"/>
              <a:chExt cx="8501040" cy="1643040"/>
            </a:xfrm>
          </p:grpSpPr>
          <p:grpSp>
            <p:nvGrpSpPr>
              <p:cNvPr id="1027" name="그룹 91"/>
              <p:cNvGrpSpPr/>
              <p:nvPr/>
            </p:nvGrpSpPr>
            <p:grpSpPr>
              <a:xfrm>
                <a:off x="285840" y="2214360"/>
                <a:ext cx="8501040" cy="1428840"/>
                <a:chOff x="285840" y="2214360"/>
                <a:chExt cx="8501040" cy="1428840"/>
              </a:xfrm>
            </p:grpSpPr>
            <p:pic>
              <p:nvPicPr>
                <p:cNvPr id="10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29" name="직사각형 77"/>
                <p:cNvSpPr/>
                <p:nvPr/>
              </p:nvSpPr>
              <p:spPr>
                <a:xfrm>
                  <a:off x="1214280" y="264456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획득된 후 무조건 자극을 주지 않고 조건자극만 반복해서 제시할 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점차 감소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031" name="그룹 91"/>
                <p:cNvGrpSpPr/>
                <p:nvPr/>
              </p:nvGrpSpPr>
              <p:grpSpPr>
                <a:xfrm>
                  <a:off x="928440" y="2000160"/>
                  <a:ext cx="1991520" cy="551160"/>
                  <a:chOff x="928440" y="2000160"/>
                  <a:chExt cx="1991520" cy="551160"/>
                </a:xfrm>
              </p:grpSpPr>
              <p:grpSp>
                <p:nvGrpSpPr>
                  <p:cNvPr id="10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0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5" name="직사각형 73"/>
                  <p:cNvSpPr/>
                  <p:nvPr/>
                </p:nvSpPr>
                <p:spPr>
                  <a:xfrm>
                    <a:off x="1311120" y="200016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6" name="직선 연결선 71"/>
                <p:cNvSpPr/>
                <p:nvPr/>
              </p:nvSpPr>
              <p:spPr>
                <a:xfrm>
                  <a:off x="4357440" y="2286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7" name="타원 66"/>
            <p:cNvGrpSpPr/>
            <p:nvPr/>
          </p:nvGrpSpPr>
          <p:grpSpPr>
            <a:xfrm>
              <a:off x="1005840" y="2791800"/>
              <a:ext cx="225360" cy="231480"/>
              <a:chOff x="1005840" y="2791800"/>
              <a:chExt cx="225360" cy="231480"/>
            </a:xfrm>
          </p:grpSpPr>
          <p:pic>
            <p:nvPicPr>
              <p:cNvPr id="1038" name="타원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791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1085760" y="2845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0" name="그룹 79"/>
          <p:cNvGrpSpPr/>
          <p:nvPr/>
        </p:nvGrpSpPr>
        <p:grpSpPr>
          <a:xfrm>
            <a:off x="285840" y="4286160"/>
            <a:ext cx="8501040" cy="1965600"/>
            <a:chOff x="285840" y="4286160"/>
            <a:chExt cx="8501040" cy="1965600"/>
          </a:xfrm>
        </p:grpSpPr>
        <p:grpSp>
          <p:nvGrpSpPr>
            <p:cNvPr id="1041" name="그룹 37"/>
            <p:cNvGrpSpPr/>
            <p:nvPr/>
          </p:nvGrpSpPr>
          <p:grpSpPr>
            <a:xfrm>
              <a:off x="285840" y="4286160"/>
              <a:ext cx="8501040" cy="1965600"/>
              <a:chOff x="285840" y="4286160"/>
              <a:chExt cx="8501040" cy="1965600"/>
            </a:xfrm>
          </p:grpSpPr>
          <p:grpSp>
            <p:nvGrpSpPr>
              <p:cNvPr id="1042" name="그룹 91"/>
              <p:cNvGrpSpPr/>
              <p:nvPr/>
            </p:nvGrpSpPr>
            <p:grpSpPr>
              <a:xfrm>
                <a:off x="285840" y="4500360"/>
                <a:ext cx="8501040" cy="1751400"/>
                <a:chOff x="285840" y="4500360"/>
                <a:chExt cx="8501040" cy="1751400"/>
              </a:xfrm>
            </p:grpSpPr>
            <p:pic>
              <p:nvPicPr>
                <p:cNvPr id="1043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500360"/>
                  <a:ext cx="8501040" cy="16434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44" name="직사각형 109"/>
                <p:cNvSpPr/>
                <p:nvPr/>
              </p:nvSpPr>
              <p:spPr>
                <a:xfrm>
                  <a:off x="1214280" y="47862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형성 후 원래의 조건자극과 유사한 자극에 조건반응을 나타내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종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혼동현상이지만 환경에 적응을 하는 데 큰 도움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5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046" name="그룹 91"/>
                <p:cNvGrpSpPr/>
                <p:nvPr/>
              </p:nvGrpSpPr>
              <p:grpSpPr>
                <a:xfrm>
                  <a:off x="928440" y="4286160"/>
                  <a:ext cx="2686680" cy="551160"/>
                  <a:chOff x="928440" y="4286160"/>
                  <a:chExt cx="2686680" cy="551160"/>
                </a:xfrm>
              </p:grpSpPr>
              <p:grpSp>
                <p:nvGrpSpPr>
                  <p:cNvPr id="1047" name="그룹 34"/>
                  <p:cNvGrpSpPr/>
                  <p:nvPr/>
                </p:nvGrpSpPr>
                <p:grpSpPr>
                  <a:xfrm>
                    <a:off x="928440" y="4395600"/>
                    <a:ext cx="349200" cy="362160"/>
                    <a:chOff x="928440" y="4395600"/>
                    <a:chExt cx="349200" cy="362160"/>
                  </a:xfrm>
                </p:grpSpPr>
                <p:pic>
                  <p:nvPicPr>
                    <p:cNvPr id="1048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401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49" name="TextBox 36"/>
                    <p:cNvSpPr/>
                    <p:nvPr/>
                  </p:nvSpPr>
                  <p:spPr>
                    <a:xfrm>
                      <a:off x="957960" y="4395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0" name="직사각형 99"/>
                  <p:cNvSpPr/>
                  <p:nvPr/>
                </p:nvSpPr>
                <p:spPr>
                  <a:xfrm>
                    <a:off x="1432080" y="4286160"/>
                    <a:ext cx="2183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일반화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eneral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1" name="직선 연결선 92"/>
                <p:cNvSpPr/>
                <p:nvPr/>
              </p:nvSpPr>
              <p:spPr>
                <a:xfrm>
                  <a:off x="4357440" y="4572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2" name="타원 81"/>
            <p:cNvGrpSpPr/>
            <p:nvPr/>
          </p:nvGrpSpPr>
          <p:grpSpPr>
            <a:xfrm>
              <a:off x="1005840" y="4931640"/>
              <a:ext cx="225360" cy="231480"/>
              <a:chOff x="1005840" y="4931640"/>
              <a:chExt cx="225360" cy="231480"/>
            </a:xfrm>
          </p:grpSpPr>
          <p:pic>
            <p:nvPicPr>
              <p:cNvPr id="1053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931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4" name=""/>
              <p:cNvSpPr/>
              <p:nvPr/>
            </p:nvSpPr>
            <p:spPr>
              <a:xfrm rot="10800000">
                <a:off x="1085760" y="49881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타원 82"/>
            <p:cNvGrpSpPr/>
            <p:nvPr/>
          </p:nvGrpSpPr>
          <p:grpSpPr>
            <a:xfrm>
              <a:off x="1005840" y="5486400"/>
              <a:ext cx="225360" cy="231480"/>
              <a:chOff x="1005840" y="5486400"/>
              <a:chExt cx="225360" cy="231480"/>
            </a:xfrm>
          </p:grpSpPr>
          <p:pic>
            <p:nvPicPr>
              <p:cNvPr id="1056" name="타원 8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486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7" name=""/>
              <p:cNvSpPr/>
              <p:nvPr/>
            </p:nvSpPr>
            <p:spPr>
              <a:xfrm rot="10800000">
                <a:off x="1085760" y="554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8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16729-4657-44A9-B264-19BBECFDB44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60" name="그룹 64"/>
          <p:cNvGrpSpPr/>
          <p:nvPr/>
        </p:nvGrpSpPr>
        <p:grpSpPr>
          <a:xfrm>
            <a:off x="285840" y="1643040"/>
            <a:ext cx="8501040" cy="1428840"/>
            <a:chOff x="285840" y="1643040"/>
            <a:chExt cx="8501040" cy="1428840"/>
          </a:xfrm>
        </p:grpSpPr>
        <p:grpSp>
          <p:nvGrpSpPr>
            <p:cNvPr id="1061" name="그룹 37"/>
            <p:cNvGrpSpPr/>
            <p:nvPr/>
          </p:nvGrpSpPr>
          <p:grpSpPr>
            <a:xfrm>
              <a:off x="285840" y="1643040"/>
              <a:ext cx="8501040" cy="1428840"/>
              <a:chOff x="285840" y="1643040"/>
              <a:chExt cx="8501040" cy="1428840"/>
            </a:xfrm>
          </p:grpSpPr>
          <p:grpSp>
            <p:nvGrpSpPr>
              <p:cNvPr id="1062" name="그룹 91"/>
              <p:cNvGrpSpPr/>
              <p:nvPr/>
            </p:nvGrpSpPr>
            <p:grpSpPr>
              <a:xfrm>
                <a:off x="285840" y="1857240"/>
                <a:ext cx="8501040" cy="1214640"/>
                <a:chOff x="285840" y="1857240"/>
                <a:chExt cx="8501040" cy="1214640"/>
              </a:xfrm>
            </p:grpSpPr>
            <p:pic>
              <p:nvPicPr>
                <p:cNvPr id="106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8572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64" name="직사각형 77"/>
                <p:cNvSpPr/>
                <p:nvPr/>
              </p:nvSpPr>
              <p:spPr>
                <a:xfrm>
                  <a:off x="1214280" y="21430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래의 조건자극에만 조건반응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나타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다른 자극에는 조건반응을 나타내지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않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5" name="그룹 44"/>
              <p:cNvGrpSpPr/>
              <p:nvPr/>
            </p:nvGrpSpPr>
            <p:grpSpPr>
              <a:xfrm>
                <a:off x="928440" y="1643040"/>
                <a:ext cx="7574040" cy="551160"/>
                <a:chOff x="928440" y="1643040"/>
                <a:chExt cx="7574040" cy="551160"/>
              </a:xfrm>
            </p:grpSpPr>
            <p:grpSp>
              <p:nvGrpSpPr>
                <p:cNvPr id="1066" name="그룹 91"/>
                <p:cNvGrpSpPr/>
                <p:nvPr/>
              </p:nvGrpSpPr>
              <p:grpSpPr>
                <a:xfrm>
                  <a:off x="928440" y="1643040"/>
                  <a:ext cx="2436840" cy="551160"/>
                  <a:chOff x="928440" y="1643040"/>
                  <a:chExt cx="2436840" cy="551160"/>
                </a:xfrm>
              </p:grpSpPr>
              <p:grpSp>
                <p:nvGrpSpPr>
                  <p:cNvPr id="1067" name="그룹 34"/>
                  <p:cNvGrpSpPr/>
                  <p:nvPr/>
                </p:nvGrpSpPr>
                <p:grpSpPr>
                  <a:xfrm>
                    <a:off x="928440" y="1752480"/>
                    <a:ext cx="349200" cy="362160"/>
                    <a:chOff x="928440" y="1752480"/>
                    <a:chExt cx="349200" cy="362160"/>
                  </a:xfrm>
                </p:grpSpPr>
                <p:pic>
                  <p:nvPicPr>
                    <p:cNvPr id="106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761120"/>
                      <a:ext cx="349200" cy="35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69" name="TextBox 36"/>
                    <p:cNvSpPr/>
                    <p:nvPr/>
                  </p:nvSpPr>
                  <p:spPr>
                    <a:xfrm>
                      <a:off x="95796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0" name="직사각형 73"/>
                  <p:cNvSpPr/>
                  <p:nvPr/>
                </p:nvSpPr>
                <p:spPr>
                  <a:xfrm>
                    <a:off x="1337400" y="1643040"/>
                    <a:ext cx="20278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변별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iscrimin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1" name="직선 연결선 71"/>
                <p:cNvSpPr/>
                <p:nvPr/>
              </p:nvSpPr>
              <p:spPr>
                <a:xfrm>
                  <a:off x="4357440" y="19288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2" name="타원 66"/>
            <p:cNvGrpSpPr/>
            <p:nvPr/>
          </p:nvGrpSpPr>
          <p:grpSpPr>
            <a:xfrm>
              <a:off x="1005840" y="2286000"/>
              <a:ext cx="225360" cy="231480"/>
              <a:chOff x="1005840" y="2286000"/>
              <a:chExt cx="225360" cy="231480"/>
            </a:xfrm>
          </p:grpSpPr>
          <p:pic>
            <p:nvPicPr>
              <p:cNvPr id="1073" name="타원 6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058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4" name=""/>
              <p:cNvSpPr/>
              <p:nvPr/>
            </p:nvSpPr>
            <p:spPr>
              <a:xfrm rot="10800000">
                <a:off x="108576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5" name="그룹 79"/>
          <p:cNvGrpSpPr/>
          <p:nvPr/>
        </p:nvGrpSpPr>
        <p:grpSpPr>
          <a:xfrm>
            <a:off x="285840" y="3429000"/>
            <a:ext cx="8501040" cy="1428840"/>
            <a:chOff x="285840" y="3429000"/>
            <a:chExt cx="8501040" cy="1428840"/>
          </a:xfrm>
        </p:grpSpPr>
        <p:grpSp>
          <p:nvGrpSpPr>
            <p:cNvPr id="1076" name="그룹 37"/>
            <p:cNvGrpSpPr/>
            <p:nvPr/>
          </p:nvGrpSpPr>
          <p:grpSpPr>
            <a:xfrm>
              <a:off x="285840" y="3429000"/>
              <a:ext cx="8501040" cy="1428840"/>
              <a:chOff x="285840" y="3429000"/>
              <a:chExt cx="8501040" cy="1428840"/>
            </a:xfrm>
          </p:grpSpPr>
          <p:grpSp>
            <p:nvGrpSpPr>
              <p:cNvPr id="1077" name="그룹 91"/>
              <p:cNvGrpSpPr/>
              <p:nvPr/>
            </p:nvGrpSpPr>
            <p:grpSpPr>
              <a:xfrm>
                <a:off x="285840" y="3643200"/>
                <a:ext cx="8501040" cy="1214640"/>
                <a:chOff x="285840" y="3643200"/>
                <a:chExt cx="8501040" cy="1214640"/>
              </a:xfrm>
            </p:grpSpPr>
            <p:pic>
              <p:nvPicPr>
                <p:cNvPr id="1078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64320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9" name="직사각형 109"/>
                <p:cNvSpPr/>
                <p:nvPr/>
              </p:nvSpPr>
              <p:spPr>
                <a:xfrm>
                  <a:off x="1214280" y="392904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단 소거되고 나서 일정 시간이 경과한 후 조건자극에 대해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우연히 나타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0" name="그룹 44"/>
              <p:cNvGrpSpPr/>
              <p:nvPr/>
            </p:nvGrpSpPr>
            <p:grpSpPr>
              <a:xfrm>
                <a:off x="928440" y="3429000"/>
                <a:ext cx="7574040" cy="551160"/>
                <a:chOff x="928440" y="3429000"/>
                <a:chExt cx="7574040" cy="551160"/>
              </a:xfrm>
            </p:grpSpPr>
            <p:grpSp>
              <p:nvGrpSpPr>
                <p:cNvPr id="1081" name="그룹 91"/>
                <p:cNvGrpSpPr/>
                <p:nvPr/>
              </p:nvGrpSpPr>
              <p:grpSpPr>
                <a:xfrm>
                  <a:off x="928440" y="3429000"/>
                  <a:ext cx="3961800" cy="551160"/>
                  <a:chOff x="928440" y="3429000"/>
                  <a:chExt cx="3961800" cy="551160"/>
                </a:xfrm>
              </p:grpSpPr>
              <p:grpSp>
                <p:nvGrpSpPr>
                  <p:cNvPr id="1082" name="그룹 34"/>
                  <p:cNvGrpSpPr/>
                  <p:nvPr/>
                </p:nvGrpSpPr>
                <p:grpSpPr>
                  <a:xfrm>
                    <a:off x="928440" y="3538440"/>
                    <a:ext cx="349200" cy="362160"/>
                    <a:chOff x="928440" y="3538440"/>
                    <a:chExt cx="349200" cy="362160"/>
                  </a:xfrm>
                </p:grpSpPr>
                <p:pic>
                  <p:nvPicPr>
                    <p:cNvPr id="1083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54744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84" name="TextBox 36"/>
                    <p:cNvSpPr/>
                    <p:nvPr/>
                  </p:nvSpPr>
                  <p:spPr>
                    <a:xfrm>
                      <a:off x="957960" y="35384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5" name="직사각형 99"/>
                  <p:cNvSpPr/>
                  <p:nvPr/>
                </p:nvSpPr>
                <p:spPr>
                  <a:xfrm>
                    <a:off x="1582200" y="3429000"/>
                    <a:ext cx="3308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자발적 회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ontaneous recove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6" name="직선 연결선 92"/>
                <p:cNvSpPr/>
                <p:nvPr/>
              </p:nvSpPr>
              <p:spPr>
                <a:xfrm>
                  <a:off x="5786280" y="3714840"/>
                  <a:ext cx="271620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7" name="타원 81"/>
            <p:cNvGrpSpPr/>
            <p:nvPr/>
          </p:nvGrpSpPr>
          <p:grpSpPr>
            <a:xfrm>
              <a:off x="1005840" y="4072320"/>
              <a:ext cx="225360" cy="231480"/>
              <a:chOff x="1005840" y="4072320"/>
              <a:chExt cx="225360" cy="231480"/>
            </a:xfrm>
          </p:grpSpPr>
          <p:pic>
            <p:nvPicPr>
              <p:cNvPr id="1088" name="타원 81" descr=""/>
              <p:cNvPicPr/>
              <p:nvPr/>
            </p:nvPicPr>
            <p:blipFill>
              <a:blip r:embed="rId7"/>
              <a:stretch/>
            </p:blipFill>
            <p:spPr>
              <a:xfrm>
                <a:off x="1005840" y="4072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9" name=""/>
              <p:cNvSpPr/>
              <p:nvPr/>
            </p:nvSpPr>
            <p:spPr>
              <a:xfrm rot="10800000">
                <a:off x="108576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0" name="그룹 79"/>
          <p:cNvGrpSpPr/>
          <p:nvPr/>
        </p:nvGrpSpPr>
        <p:grpSpPr>
          <a:xfrm>
            <a:off x="285840" y="5286240"/>
            <a:ext cx="8501040" cy="1428840"/>
            <a:chOff x="285840" y="5286240"/>
            <a:chExt cx="8501040" cy="1428840"/>
          </a:xfrm>
        </p:grpSpPr>
        <p:grpSp>
          <p:nvGrpSpPr>
            <p:cNvPr id="1091" name="그룹 37"/>
            <p:cNvGrpSpPr/>
            <p:nvPr/>
          </p:nvGrpSpPr>
          <p:grpSpPr>
            <a:xfrm>
              <a:off x="285840" y="5286240"/>
              <a:ext cx="8501040" cy="1428840"/>
              <a:chOff x="285840" y="5286240"/>
              <a:chExt cx="8501040" cy="1428840"/>
            </a:xfrm>
          </p:grpSpPr>
          <p:grpSp>
            <p:nvGrpSpPr>
              <p:cNvPr id="1092" name="그룹 91"/>
              <p:cNvGrpSpPr/>
              <p:nvPr/>
            </p:nvGrpSpPr>
            <p:grpSpPr>
              <a:xfrm>
                <a:off x="285840" y="5500440"/>
                <a:ext cx="8501040" cy="1214640"/>
                <a:chOff x="285840" y="5500440"/>
                <a:chExt cx="8501040" cy="1214640"/>
              </a:xfrm>
            </p:grpSpPr>
            <p:pic>
              <p:nvPicPr>
                <p:cNvPr id="1093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500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4" name="직사각형 91"/>
                <p:cNvSpPr/>
                <p:nvPr/>
              </p:nvSpPr>
              <p:spPr>
                <a:xfrm>
                  <a:off x="1214280" y="57862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자극과 연합된 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2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 중립자극이 조건반응을 유발하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현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가 불빛이 되었을 경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와 불빛을 결합하면 불빛도 조건자극이 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5" name="그룹 44"/>
              <p:cNvGrpSpPr/>
              <p:nvPr/>
            </p:nvGrpSpPr>
            <p:grpSpPr>
              <a:xfrm>
                <a:off x="928440" y="5286240"/>
                <a:ext cx="7574040" cy="551160"/>
                <a:chOff x="928440" y="5286240"/>
                <a:chExt cx="7574040" cy="551160"/>
              </a:xfrm>
            </p:grpSpPr>
            <p:grpSp>
              <p:nvGrpSpPr>
                <p:cNvPr id="1096" name="그룹 91"/>
                <p:cNvGrpSpPr/>
                <p:nvPr/>
              </p:nvGrpSpPr>
              <p:grpSpPr>
                <a:xfrm>
                  <a:off x="928440" y="5286240"/>
                  <a:ext cx="4752000" cy="551160"/>
                  <a:chOff x="928440" y="5286240"/>
                  <a:chExt cx="4752000" cy="551160"/>
                </a:xfrm>
              </p:grpSpPr>
              <p:grpSp>
                <p:nvGrpSpPr>
                  <p:cNvPr id="1097" name="그룹 34"/>
                  <p:cNvGrpSpPr/>
                  <p:nvPr/>
                </p:nvGrpSpPr>
                <p:grpSpPr>
                  <a:xfrm>
                    <a:off x="928440" y="5395680"/>
                    <a:ext cx="349200" cy="362160"/>
                    <a:chOff x="928440" y="5395680"/>
                    <a:chExt cx="349200" cy="362160"/>
                  </a:xfrm>
                </p:grpSpPr>
                <p:pic>
                  <p:nvPicPr>
                    <p:cNvPr id="1098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400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9" name="TextBox 36"/>
                    <p:cNvSpPr/>
                    <p:nvPr/>
                  </p:nvSpPr>
                  <p:spPr>
                    <a:xfrm>
                      <a:off x="957960" y="5395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0" name="직사각형 87"/>
                  <p:cNvSpPr/>
                  <p:nvPr/>
                </p:nvSpPr>
                <p:spPr>
                  <a:xfrm>
                    <a:off x="1705320" y="5286240"/>
                    <a:ext cx="3975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고차적 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higher-ord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1" name="직선 연결선 85"/>
                <p:cNvSpPr/>
                <p:nvPr/>
              </p:nvSpPr>
              <p:spPr>
                <a:xfrm>
                  <a:off x="6215040" y="557208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2" name="타원 79"/>
            <p:cNvGrpSpPr/>
            <p:nvPr/>
          </p:nvGrpSpPr>
          <p:grpSpPr>
            <a:xfrm>
              <a:off x="1005840" y="5931360"/>
              <a:ext cx="225360" cy="231480"/>
              <a:chOff x="1005840" y="5931360"/>
              <a:chExt cx="225360" cy="231480"/>
            </a:xfrm>
          </p:grpSpPr>
          <p:pic>
            <p:nvPicPr>
              <p:cNvPr id="1103" name="타원 7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05840" y="5931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4" name=""/>
              <p:cNvSpPr/>
              <p:nvPr/>
            </p:nvSpPr>
            <p:spPr>
              <a:xfrm rot="10800000">
                <a:off x="1085760" y="5988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5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B5BB0-2D1B-4781-8F53-14986B90A27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07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10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09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6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그룹 65"/>
          <p:cNvGrpSpPr/>
          <p:nvPr/>
        </p:nvGrpSpPr>
        <p:grpSpPr>
          <a:xfrm>
            <a:off x="285840" y="1857240"/>
            <a:ext cx="8501040" cy="1428840"/>
            <a:chOff x="285840" y="1857240"/>
            <a:chExt cx="8501040" cy="1428840"/>
          </a:xfrm>
        </p:grpSpPr>
        <p:grpSp>
          <p:nvGrpSpPr>
            <p:cNvPr id="1118" name="그룹 37"/>
            <p:cNvGrpSpPr/>
            <p:nvPr/>
          </p:nvGrpSpPr>
          <p:grpSpPr>
            <a:xfrm>
              <a:off x="285840" y="1857240"/>
              <a:ext cx="8501040" cy="1428840"/>
              <a:chOff x="285840" y="1857240"/>
              <a:chExt cx="8501040" cy="1428840"/>
            </a:xfrm>
          </p:grpSpPr>
          <p:grpSp>
            <p:nvGrpSpPr>
              <p:cNvPr id="1119" name="그룹 91"/>
              <p:cNvGrpSpPr/>
              <p:nvPr/>
            </p:nvGrpSpPr>
            <p:grpSpPr>
              <a:xfrm>
                <a:off x="285840" y="2071440"/>
                <a:ext cx="8501040" cy="1214640"/>
                <a:chOff x="285840" y="2071440"/>
                <a:chExt cx="8501040" cy="1214640"/>
              </a:xfrm>
            </p:grpSpPr>
            <p:pic>
              <p:nvPicPr>
                <p:cNvPr id="1120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21" name="직사각형 78"/>
                <p:cNvSpPr/>
                <p:nvPr/>
              </p:nvSpPr>
              <p:spPr>
                <a:xfrm>
                  <a:off x="1143000" y="23572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무조건 자극이 없이 조건자극만 제시하여 바람직하지 않은 반응을 감소시키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,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금연초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2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1123" name="그룹 91"/>
                <p:cNvGrpSpPr/>
                <p:nvPr/>
              </p:nvGrpSpPr>
              <p:grpSpPr>
                <a:xfrm>
                  <a:off x="928440" y="1857240"/>
                  <a:ext cx="1991520" cy="551160"/>
                  <a:chOff x="928440" y="1857240"/>
                  <a:chExt cx="1991520" cy="551160"/>
                </a:xfrm>
              </p:grpSpPr>
              <p:grpSp>
                <p:nvGrpSpPr>
                  <p:cNvPr id="1124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125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26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27" name="직사각형 74"/>
                  <p:cNvSpPr/>
                  <p:nvPr/>
                </p:nvSpPr>
                <p:spPr>
                  <a:xfrm>
                    <a:off x="1311120" y="185724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8" name="직선 연결선 72"/>
                <p:cNvSpPr/>
                <p:nvPr/>
              </p:nvSpPr>
              <p:spPr>
                <a:xfrm>
                  <a:off x="4357440" y="21430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9" name="타원 67"/>
            <p:cNvGrpSpPr/>
            <p:nvPr/>
          </p:nvGrpSpPr>
          <p:grpSpPr>
            <a:xfrm>
              <a:off x="963000" y="2517480"/>
              <a:ext cx="225360" cy="231480"/>
              <a:chOff x="963000" y="2517480"/>
              <a:chExt cx="225360" cy="231480"/>
            </a:xfrm>
          </p:grpSpPr>
          <p:pic>
            <p:nvPicPr>
              <p:cNvPr id="1130" name="타원 67" descr=""/>
              <p:cNvPicPr/>
              <p:nvPr/>
            </p:nvPicPr>
            <p:blipFill>
              <a:blip r:embed="rId5"/>
              <a:stretch/>
            </p:blipFill>
            <p:spPr>
              <a:xfrm>
                <a:off x="96300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1" name=""/>
              <p:cNvSpPr/>
              <p:nvPr/>
            </p:nvSpPr>
            <p:spPr>
              <a:xfrm rot="10800000">
                <a:off x="1042200" y="2573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2" name="그룹 79"/>
          <p:cNvGrpSpPr/>
          <p:nvPr/>
        </p:nvGrpSpPr>
        <p:grpSpPr>
          <a:xfrm>
            <a:off x="285840" y="3286080"/>
            <a:ext cx="8501040" cy="3289320"/>
            <a:chOff x="285840" y="3286080"/>
            <a:chExt cx="8501040" cy="3289320"/>
          </a:xfrm>
        </p:grpSpPr>
        <p:grpSp>
          <p:nvGrpSpPr>
            <p:cNvPr id="1133" name="그룹 37"/>
            <p:cNvGrpSpPr/>
            <p:nvPr/>
          </p:nvGrpSpPr>
          <p:grpSpPr>
            <a:xfrm>
              <a:off x="285840" y="3286080"/>
              <a:ext cx="8501040" cy="3289320"/>
              <a:chOff x="285840" y="3286080"/>
              <a:chExt cx="8501040" cy="3289320"/>
            </a:xfrm>
          </p:grpSpPr>
          <p:grpSp>
            <p:nvGrpSpPr>
              <p:cNvPr id="1134" name="그룹 91"/>
              <p:cNvGrpSpPr/>
              <p:nvPr/>
            </p:nvGrpSpPr>
            <p:grpSpPr>
              <a:xfrm>
                <a:off x="285840" y="3500280"/>
                <a:ext cx="8501040" cy="3075120"/>
                <a:chOff x="285840" y="3500280"/>
                <a:chExt cx="8501040" cy="3075120"/>
              </a:xfrm>
            </p:grpSpPr>
            <p:pic>
              <p:nvPicPr>
                <p:cNvPr id="1135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3500280"/>
                  <a:ext cx="8501040" cy="30751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6" name="직사각형 91"/>
                <p:cNvSpPr/>
                <p:nvPr/>
              </p:nvSpPr>
              <p:spPr>
                <a:xfrm>
                  <a:off x="1143000" y="378576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못한 조건반응을 바람직한 조건반응으로 대치하려는 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7" name="그룹 44"/>
              <p:cNvGrpSpPr/>
              <p:nvPr/>
            </p:nvGrpSpPr>
            <p:grpSpPr>
              <a:xfrm>
                <a:off x="928440" y="3286080"/>
                <a:ext cx="7574040" cy="551160"/>
                <a:chOff x="928440" y="3286080"/>
                <a:chExt cx="7574040" cy="551160"/>
              </a:xfrm>
            </p:grpSpPr>
            <p:grpSp>
              <p:nvGrpSpPr>
                <p:cNvPr id="1138" name="그룹 91"/>
                <p:cNvGrpSpPr/>
                <p:nvPr/>
              </p:nvGrpSpPr>
              <p:grpSpPr>
                <a:xfrm>
                  <a:off x="928440" y="3286080"/>
                  <a:ext cx="3752280" cy="551160"/>
                  <a:chOff x="928440" y="3286080"/>
                  <a:chExt cx="3752280" cy="551160"/>
                </a:xfrm>
              </p:grpSpPr>
              <p:grpSp>
                <p:nvGrpSpPr>
                  <p:cNvPr id="1139" name="그룹 34"/>
                  <p:cNvGrpSpPr/>
                  <p:nvPr/>
                </p:nvGrpSpPr>
                <p:grpSpPr>
                  <a:xfrm>
                    <a:off x="928440" y="3395520"/>
                    <a:ext cx="349200" cy="362160"/>
                    <a:chOff x="928440" y="3395520"/>
                    <a:chExt cx="349200" cy="362160"/>
                  </a:xfrm>
                </p:grpSpPr>
                <p:pic>
                  <p:nvPicPr>
                    <p:cNvPr id="1140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401280"/>
                      <a:ext cx="34920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41" name="TextBox 36"/>
                    <p:cNvSpPr/>
                    <p:nvPr/>
                  </p:nvSpPr>
                  <p:spPr>
                    <a:xfrm>
                      <a:off x="957960" y="3395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2" name="직사각형 87"/>
                  <p:cNvSpPr/>
                  <p:nvPr/>
                </p:nvSpPr>
                <p:spPr>
                  <a:xfrm>
                    <a:off x="1554120" y="3286080"/>
                    <a:ext cx="3126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역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unt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3" name="직선 연결선 85"/>
                <p:cNvSpPr/>
                <p:nvPr/>
              </p:nvSpPr>
              <p:spPr>
                <a:xfrm>
                  <a:off x="5429160" y="3571920"/>
                  <a:ext cx="30733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4" name="타원 81"/>
            <p:cNvGrpSpPr/>
            <p:nvPr/>
          </p:nvGrpSpPr>
          <p:grpSpPr>
            <a:xfrm>
              <a:off x="963000" y="3943800"/>
              <a:ext cx="225360" cy="231480"/>
              <a:chOff x="963000" y="3943800"/>
              <a:chExt cx="225360" cy="231480"/>
            </a:xfrm>
          </p:grpSpPr>
          <p:pic>
            <p:nvPicPr>
              <p:cNvPr id="1145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963000" y="3943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1042200" y="4002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93"/>
            <p:cNvGrpSpPr/>
            <p:nvPr/>
          </p:nvGrpSpPr>
          <p:grpSpPr>
            <a:xfrm>
              <a:off x="963000" y="4389120"/>
              <a:ext cx="225360" cy="231480"/>
              <a:chOff x="963000" y="4389120"/>
              <a:chExt cx="225360" cy="231480"/>
            </a:xfrm>
          </p:grpSpPr>
          <p:pic>
            <p:nvPicPr>
              <p:cNvPr id="1148" name="타원 93" descr=""/>
              <p:cNvPicPr/>
              <p:nvPr/>
            </p:nvPicPr>
            <p:blipFill>
              <a:blip r:embed="rId9"/>
              <a:stretch/>
            </p:blipFill>
            <p:spPr>
              <a:xfrm>
                <a:off x="963000" y="4389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1042200" y="44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0" name="이등변 삼각형 94"/>
          <p:cNvGrpSpPr/>
          <p:nvPr/>
        </p:nvGrpSpPr>
        <p:grpSpPr>
          <a:xfrm>
            <a:off x="2011320" y="4821120"/>
            <a:ext cx="4979880" cy="1408320"/>
            <a:chOff x="2011320" y="4821120"/>
            <a:chExt cx="4979880" cy="1408320"/>
          </a:xfrm>
        </p:grpSpPr>
        <p:pic>
          <p:nvPicPr>
            <p:cNvPr id="1151" name="이등변 삼각형 94" descr=""/>
            <p:cNvPicPr/>
            <p:nvPr/>
          </p:nvPicPr>
          <p:blipFill>
            <a:blip r:embed="rId10"/>
            <a:stretch/>
          </p:blipFill>
          <p:spPr>
            <a:xfrm>
              <a:off x="2011320" y="4821120"/>
              <a:ext cx="49798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2" name=""/>
            <p:cNvSpPr/>
            <p:nvPr/>
          </p:nvSpPr>
          <p:spPr>
            <a:xfrm rot="10800000">
              <a:off x="3285720" y="4857840"/>
              <a:ext cx="24289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3" name="모서리가 둥근 직사각형 95"/>
          <p:cNvSpPr/>
          <p:nvPr/>
        </p:nvSpPr>
        <p:spPr>
          <a:xfrm>
            <a:off x="933480" y="4786200"/>
            <a:ext cx="763920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하지 못한 조건반응과 상반되는 새로운 반응을 선택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모서리가 둥근 직사각형 96"/>
          <p:cNvSpPr/>
          <p:nvPr/>
        </p:nvSpPr>
        <p:spPr>
          <a:xfrm>
            <a:off x="928800" y="5286240"/>
            <a:ext cx="764388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한 반응을 유발하는 자극을 확인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모서리가 둥근 직사각형 97"/>
          <p:cNvSpPr/>
          <p:nvPr/>
        </p:nvSpPr>
        <p:spPr>
          <a:xfrm>
            <a:off x="928800" y="5786280"/>
            <a:ext cx="7643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반응을 유발하는 자극을 제시한 다음 바람직하지 못한 반응을 유발하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자극을 점차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시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슬라이드 번호 개체 틀 4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2AE2A-3CD6-41E5-BCE1-A97431525E7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58" name="그룹 65"/>
          <p:cNvGrpSpPr/>
          <p:nvPr/>
        </p:nvGrpSpPr>
        <p:grpSpPr>
          <a:xfrm>
            <a:off x="285840" y="1428840"/>
            <a:ext cx="8501040" cy="1500120"/>
            <a:chOff x="285840" y="1428840"/>
            <a:chExt cx="8501040" cy="1500120"/>
          </a:xfrm>
        </p:grpSpPr>
        <p:grpSp>
          <p:nvGrpSpPr>
            <p:cNvPr id="1159" name="그룹 37"/>
            <p:cNvGrpSpPr/>
            <p:nvPr/>
          </p:nvGrpSpPr>
          <p:grpSpPr>
            <a:xfrm>
              <a:off x="285840" y="1428840"/>
              <a:ext cx="8501040" cy="1500120"/>
              <a:chOff x="285840" y="1428840"/>
              <a:chExt cx="8501040" cy="1500120"/>
            </a:xfrm>
          </p:grpSpPr>
          <p:grpSp>
            <p:nvGrpSpPr>
              <p:cNvPr id="1160" name="그룹 91"/>
              <p:cNvGrpSpPr/>
              <p:nvPr/>
            </p:nvGrpSpPr>
            <p:grpSpPr>
              <a:xfrm>
                <a:off x="285840" y="1643040"/>
                <a:ext cx="8501040" cy="1285920"/>
                <a:chOff x="285840" y="1643040"/>
                <a:chExt cx="8501040" cy="1285920"/>
              </a:xfrm>
            </p:grpSpPr>
            <p:pic>
              <p:nvPicPr>
                <p:cNvPr id="1161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64304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62" name="직사각형 78"/>
                <p:cNvSpPr/>
                <p:nvPr/>
              </p:nvSpPr>
              <p:spPr>
                <a:xfrm>
                  <a:off x="1143000" y="192852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나 불안을 일으키는 조건자극을 장시간 동안 충분하게 경험시켜 공포나 불안을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3" name="그룹 44"/>
              <p:cNvGrpSpPr/>
              <p:nvPr/>
            </p:nvGrpSpPr>
            <p:grpSpPr>
              <a:xfrm>
                <a:off x="928440" y="1428840"/>
                <a:ext cx="7574040" cy="551160"/>
                <a:chOff x="928440" y="1428840"/>
                <a:chExt cx="7574040" cy="551160"/>
              </a:xfrm>
            </p:grpSpPr>
            <p:grpSp>
              <p:nvGrpSpPr>
                <p:cNvPr id="1164" name="그룹 91"/>
                <p:cNvGrpSpPr/>
                <p:nvPr/>
              </p:nvGrpSpPr>
              <p:grpSpPr>
                <a:xfrm>
                  <a:off x="928440" y="1428840"/>
                  <a:ext cx="2568960" cy="551160"/>
                  <a:chOff x="928440" y="1428840"/>
                  <a:chExt cx="2568960" cy="551160"/>
                </a:xfrm>
              </p:grpSpPr>
              <p:grpSp>
                <p:nvGrpSpPr>
                  <p:cNvPr id="1165" name="그룹 34"/>
                  <p:cNvGrpSpPr/>
                  <p:nvPr/>
                </p:nvGrpSpPr>
                <p:grpSpPr>
                  <a:xfrm>
                    <a:off x="928440" y="1538280"/>
                    <a:ext cx="349200" cy="362160"/>
                    <a:chOff x="928440" y="1538280"/>
                    <a:chExt cx="349200" cy="362160"/>
                  </a:xfrm>
                </p:grpSpPr>
                <p:pic>
                  <p:nvPicPr>
                    <p:cNvPr id="1166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541880"/>
                      <a:ext cx="349200" cy="35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67" name="TextBox 36"/>
                    <p:cNvSpPr/>
                    <p:nvPr/>
                  </p:nvSpPr>
                  <p:spPr>
                    <a:xfrm>
                      <a:off x="957960" y="1538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8" name="직사각형 74"/>
                  <p:cNvSpPr/>
                  <p:nvPr/>
                </p:nvSpPr>
                <p:spPr>
                  <a:xfrm>
                    <a:off x="1384560" y="1428840"/>
                    <a:ext cx="2112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홍수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flood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tho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9" name="직선 연결선 72"/>
                <p:cNvSpPr/>
                <p:nvPr/>
              </p:nvSpPr>
              <p:spPr>
                <a:xfrm>
                  <a:off x="4357440" y="17146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0" name="타원 67"/>
            <p:cNvGrpSpPr/>
            <p:nvPr/>
          </p:nvGrpSpPr>
          <p:grpSpPr>
            <a:xfrm>
              <a:off x="963000" y="2090880"/>
              <a:ext cx="225360" cy="231480"/>
              <a:chOff x="963000" y="2090880"/>
              <a:chExt cx="225360" cy="231480"/>
            </a:xfrm>
          </p:grpSpPr>
          <p:pic>
            <p:nvPicPr>
              <p:cNvPr id="1171" name="타원 67" descr=""/>
              <p:cNvPicPr/>
              <p:nvPr/>
            </p:nvPicPr>
            <p:blipFill>
              <a:blip r:embed="rId4"/>
              <a:stretch/>
            </p:blipFill>
            <p:spPr>
              <a:xfrm>
                <a:off x="963000" y="20908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2" name=""/>
              <p:cNvSpPr/>
              <p:nvPr/>
            </p:nvSpPr>
            <p:spPr>
              <a:xfrm rot="10800000">
                <a:off x="1042200" y="2145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3" name="그룹 65"/>
          <p:cNvGrpSpPr/>
          <p:nvPr/>
        </p:nvGrpSpPr>
        <p:grpSpPr>
          <a:xfrm>
            <a:off x="285840" y="3214800"/>
            <a:ext cx="8501040" cy="1500120"/>
            <a:chOff x="285840" y="3214800"/>
            <a:chExt cx="8501040" cy="1500120"/>
          </a:xfrm>
        </p:grpSpPr>
        <p:grpSp>
          <p:nvGrpSpPr>
            <p:cNvPr id="1174" name="그룹 37"/>
            <p:cNvGrpSpPr/>
            <p:nvPr/>
          </p:nvGrpSpPr>
          <p:grpSpPr>
            <a:xfrm>
              <a:off x="285840" y="3214800"/>
              <a:ext cx="8501040" cy="1500120"/>
              <a:chOff x="285840" y="3214800"/>
              <a:chExt cx="8501040" cy="1500120"/>
            </a:xfrm>
          </p:grpSpPr>
          <p:grpSp>
            <p:nvGrpSpPr>
              <p:cNvPr id="1175" name="그룹 91"/>
              <p:cNvGrpSpPr/>
              <p:nvPr/>
            </p:nvGrpSpPr>
            <p:grpSpPr>
              <a:xfrm>
                <a:off x="285840" y="3429000"/>
                <a:ext cx="8501040" cy="1285920"/>
                <a:chOff x="285840" y="3429000"/>
                <a:chExt cx="8501040" cy="1285920"/>
              </a:xfrm>
            </p:grpSpPr>
            <p:pic>
              <p:nvPicPr>
                <p:cNvPr id="117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42900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7" name="직사각형 109"/>
                <p:cNvSpPr/>
                <p:nvPr/>
              </p:nvSpPr>
              <p:spPr>
                <a:xfrm>
                  <a:off x="1143000" y="37144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역조건형성을 이용하여 공포를 일으키는 자극에 점진적으로 노출시켜 공포를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 등의 조건자극에 이완을 결합시켜 중립자극으로 환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8" name="그룹 44"/>
              <p:cNvGrpSpPr/>
              <p:nvPr/>
            </p:nvGrpSpPr>
            <p:grpSpPr>
              <a:xfrm>
                <a:off x="928440" y="3214800"/>
                <a:ext cx="7574040" cy="551160"/>
                <a:chOff x="928440" y="3214800"/>
                <a:chExt cx="7574040" cy="551160"/>
              </a:xfrm>
            </p:grpSpPr>
            <p:grpSp>
              <p:nvGrpSpPr>
                <p:cNvPr id="1179" name="그룹 91"/>
                <p:cNvGrpSpPr/>
                <p:nvPr/>
              </p:nvGrpSpPr>
              <p:grpSpPr>
                <a:xfrm>
                  <a:off x="928440" y="3214800"/>
                  <a:ext cx="4548240" cy="551160"/>
                  <a:chOff x="928440" y="3214800"/>
                  <a:chExt cx="4548240" cy="551160"/>
                </a:xfrm>
              </p:grpSpPr>
              <p:grpSp>
                <p:nvGrpSpPr>
                  <p:cNvPr id="1180" name="그룹 34"/>
                  <p:cNvGrpSpPr/>
                  <p:nvPr/>
                </p:nvGrpSpPr>
                <p:grpSpPr>
                  <a:xfrm>
                    <a:off x="928440" y="3324240"/>
                    <a:ext cx="349200" cy="362160"/>
                    <a:chOff x="928440" y="3324240"/>
                    <a:chExt cx="349200" cy="362160"/>
                  </a:xfrm>
                </p:grpSpPr>
                <p:pic>
                  <p:nvPicPr>
                    <p:cNvPr id="118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32820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82" name="TextBox 36"/>
                    <p:cNvSpPr/>
                    <p:nvPr/>
                  </p:nvSpPr>
                  <p:spPr>
                    <a:xfrm>
                      <a:off x="957960" y="33242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83" name="직사각형 105"/>
                  <p:cNvSpPr/>
                  <p:nvPr/>
                </p:nvSpPr>
                <p:spPr>
                  <a:xfrm>
                    <a:off x="1635480" y="3214800"/>
                    <a:ext cx="3841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체계적 둔감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ystematic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desensit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4" name="직선 연결선 103"/>
                <p:cNvSpPr/>
                <p:nvPr/>
              </p:nvSpPr>
              <p:spPr>
                <a:xfrm>
                  <a:off x="6215040" y="350064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5" name="타원 99"/>
            <p:cNvGrpSpPr/>
            <p:nvPr/>
          </p:nvGrpSpPr>
          <p:grpSpPr>
            <a:xfrm>
              <a:off x="963000" y="3877200"/>
              <a:ext cx="225360" cy="231480"/>
              <a:chOff x="963000" y="3877200"/>
              <a:chExt cx="225360" cy="231480"/>
            </a:xfrm>
          </p:grpSpPr>
          <p:pic>
            <p:nvPicPr>
              <p:cNvPr id="1186" name="타원 99" descr=""/>
              <p:cNvPicPr/>
              <p:nvPr/>
            </p:nvPicPr>
            <p:blipFill>
              <a:blip r:embed="rId7"/>
              <a:stretch/>
            </p:blipFill>
            <p:spPr>
              <a:xfrm>
                <a:off x="9630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7" name=""/>
              <p:cNvSpPr/>
              <p:nvPr/>
            </p:nvSpPr>
            <p:spPr>
              <a:xfrm rot="10800000">
                <a:off x="1042200" y="3931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8" name="그룹 65"/>
          <p:cNvGrpSpPr/>
          <p:nvPr/>
        </p:nvGrpSpPr>
        <p:grpSpPr>
          <a:xfrm>
            <a:off x="285840" y="5000760"/>
            <a:ext cx="8501040" cy="1500120"/>
            <a:chOff x="285840" y="5000760"/>
            <a:chExt cx="8501040" cy="1500120"/>
          </a:xfrm>
        </p:grpSpPr>
        <p:grpSp>
          <p:nvGrpSpPr>
            <p:cNvPr id="1189" name="그룹 37"/>
            <p:cNvGrpSpPr/>
            <p:nvPr/>
          </p:nvGrpSpPr>
          <p:grpSpPr>
            <a:xfrm>
              <a:off x="285840" y="5000760"/>
              <a:ext cx="8501040" cy="1500120"/>
              <a:chOff x="285840" y="5000760"/>
              <a:chExt cx="8501040" cy="1500120"/>
            </a:xfrm>
          </p:grpSpPr>
          <p:grpSp>
            <p:nvGrpSpPr>
              <p:cNvPr id="1190" name="그룹 91"/>
              <p:cNvGrpSpPr/>
              <p:nvPr/>
            </p:nvGrpSpPr>
            <p:grpSpPr>
              <a:xfrm>
                <a:off x="285840" y="5214960"/>
                <a:ext cx="8501040" cy="1285920"/>
                <a:chOff x="285840" y="5214960"/>
                <a:chExt cx="8501040" cy="1285920"/>
              </a:xfrm>
            </p:grpSpPr>
            <p:pic>
              <p:nvPicPr>
                <p:cNvPr id="1191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21496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2" name="직사각형 123"/>
                <p:cNvSpPr/>
                <p:nvPr/>
              </p:nvSpPr>
              <p:spPr>
                <a:xfrm>
                  <a:off x="1143000" y="55004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않은 반응을 유발하는 자극과 혐오자극을 함께 제시하여 조건자극을 회피하도록 하는 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알코올 중독자에게 구토제를 주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3" name="그룹 44"/>
              <p:cNvGrpSpPr/>
              <p:nvPr/>
            </p:nvGrpSpPr>
            <p:grpSpPr>
              <a:xfrm>
                <a:off x="928440" y="5000760"/>
                <a:ext cx="7574040" cy="551160"/>
                <a:chOff x="928440" y="5000760"/>
                <a:chExt cx="7574040" cy="551160"/>
              </a:xfrm>
            </p:grpSpPr>
            <p:grpSp>
              <p:nvGrpSpPr>
                <p:cNvPr id="1194" name="그룹 91"/>
                <p:cNvGrpSpPr/>
                <p:nvPr/>
              </p:nvGrpSpPr>
              <p:grpSpPr>
                <a:xfrm>
                  <a:off x="928440" y="5000760"/>
                  <a:ext cx="3121920" cy="551160"/>
                  <a:chOff x="928440" y="5000760"/>
                  <a:chExt cx="3121920" cy="551160"/>
                </a:xfrm>
              </p:grpSpPr>
              <p:grpSp>
                <p:nvGrpSpPr>
                  <p:cNvPr id="1195" name="그룹 34"/>
                  <p:cNvGrpSpPr/>
                  <p:nvPr/>
                </p:nvGrpSpPr>
                <p:grpSpPr>
                  <a:xfrm>
                    <a:off x="928440" y="5110200"/>
                    <a:ext cx="349200" cy="362160"/>
                    <a:chOff x="928440" y="5110200"/>
                    <a:chExt cx="349200" cy="362160"/>
                  </a:xfrm>
                </p:grpSpPr>
                <p:pic>
                  <p:nvPicPr>
                    <p:cNvPr id="1196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11416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7" name="TextBox 36"/>
                    <p:cNvSpPr/>
                    <p:nvPr/>
                  </p:nvSpPr>
                  <p:spPr>
                    <a:xfrm>
                      <a:off x="957960" y="511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8" name="직사각형 119"/>
                  <p:cNvSpPr/>
                  <p:nvPr/>
                </p:nvSpPr>
                <p:spPr>
                  <a:xfrm>
                    <a:off x="1472760" y="5000760"/>
                    <a:ext cx="2577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혐오치료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version therap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9" name="직선 연결선 117"/>
                <p:cNvSpPr/>
                <p:nvPr/>
              </p:nvSpPr>
              <p:spPr>
                <a:xfrm>
                  <a:off x="6215040" y="528660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0" name="타원 113"/>
            <p:cNvGrpSpPr/>
            <p:nvPr/>
          </p:nvGrpSpPr>
          <p:grpSpPr>
            <a:xfrm>
              <a:off x="963000" y="5657040"/>
              <a:ext cx="225360" cy="231480"/>
              <a:chOff x="963000" y="5657040"/>
              <a:chExt cx="225360" cy="231480"/>
            </a:xfrm>
          </p:grpSpPr>
          <p:pic>
            <p:nvPicPr>
              <p:cNvPr id="1201" name="타원 1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963000" y="5657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2" name=""/>
              <p:cNvSpPr/>
              <p:nvPr/>
            </p:nvSpPr>
            <p:spPr>
              <a:xfrm rot="10800000">
                <a:off x="1042200" y="571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3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825CB-E61C-40C4-A99E-3C4129BFF6B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6" name="직사각형 13"/>
              <p:cNvSpPr/>
              <p:nvPr/>
            </p:nvSpPr>
            <p:spPr>
              <a:xfrm>
                <a:off x="1733400" y="1385640"/>
                <a:ext cx="2705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의 핵심개념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강화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1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그룹 39"/>
          <p:cNvGrpSpPr/>
          <p:nvPr/>
        </p:nvGrpSpPr>
        <p:grpSpPr>
          <a:xfrm>
            <a:off x="642960" y="1714680"/>
            <a:ext cx="8286840" cy="5143320"/>
            <a:chOff x="642960" y="1714680"/>
            <a:chExt cx="8286840" cy="5143320"/>
          </a:xfrm>
        </p:grpSpPr>
        <p:grpSp>
          <p:nvGrpSpPr>
            <p:cNvPr id="1215" name="그룹 123"/>
            <p:cNvGrpSpPr/>
            <p:nvPr/>
          </p:nvGrpSpPr>
          <p:grpSpPr>
            <a:xfrm>
              <a:off x="642960" y="1714680"/>
              <a:ext cx="8286840" cy="5143320"/>
              <a:chOff x="642960" y="1714680"/>
              <a:chExt cx="8286840" cy="5143320"/>
            </a:xfrm>
          </p:grpSpPr>
          <p:pic>
            <p:nvPicPr>
              <p:cNvPr id="121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642960" y="1714680"/>
                <a:ext cx="8072640" cy="51433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17" name="직사각형 19"/>
              <p:cNvSpPr/>
              <p:nvPr/>
            </p:nvSpPr>
            <p:spPr>
              <a:xfrm>
                <a:off x="1000080" y="1870200"/>
                <a:ext cx="7929720" cy="215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긍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얻을 수 있는 행동은 반복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 중립적인 결과가 수반되는 행동은 반복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 확률 혹은 강도를 증가시키는 절차 혹은 결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의 확률을 증가시키기 위해 반응 후 제시하는 자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8" name="타원 21"/>
              <p:cNvGrpSpPr/>
              <p:nvPr/>
            </p:nvGrpSpPr>
            <p:grpSpPr>
              <a:xfrm>
                <a:off x="908280" y="2066400"/>
                <a:ext cx="225360" cy="237600"/>
                <a:chOff x="908280" y="2066400"/>
                <a:chExt cx="225360" cy="237600"/>
              </a:xfrm>
            </p:grpSpPr>
            <p:pic>
              <p:nvPicPr>
                <p:cNvPr id="1219" name="타원 2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08280" y="20664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0" name=""/>
                <p:cNvSpPr/>
                <p:nvPr/>
              </p:nvSpPr>
              <p:spPr>
                <a:xfrm rot="10800000">
                  <a:off x="987480" y="2122920"/>
                  <a:ext cx="69120" cy="7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1" name="타원 17"/>
            <p:cNvGrpSpPr/>
            <p:nvPr/>
          </p:nvGrpSpPr>
          <p:grpSpPr>
            <a:xfrm>
              <a:off x="908280" y="3243240"/>
              <a:ext cx="225360" cy="243720"/>
              <a:chOff x="908280" y="3243240"/>
              <a:chExt cx="225360" cy="243720"/>
            </a:xfrm>
          </p:grpSpPr>
          <p:pic>
            <p:nvPicPr>
              <p:cNvPr id="1222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08280" y="3243240"/>
                <a:ext cx="22536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3" name=""/>
              <p:cNvSpPr/>
              <p:nvPr/>
            </p:nvSpPr>
            <p:spPr>
              <a:xfrm rot="10800000">
                <a:off x="987480" y="3301920"/>
                <a:ext cx="69120" cy="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4" name="슬라이드 번호 개체 틀 2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37593-EA5A-486C-B43A-D145AFB3E82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TextBox 22" descr=""/>
          <p:cNvPicPr/>
          <p:nvPr/>
        </p:nvPicPr>
        <p:blipFill>
          <a:blip r:embed="rId5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26" name="타원 24"/>
          <p:cNvGrpSpPr/>
          <p:nvPr/>
        </p:nvGrpSpPr>
        <p:grpSpPr>
          <a:xfrm>
            <a:off x="858960" y="4316400"/>
            <a:ext cx="226800" cy="231840"/>
            <a:chOff x="858960" y="4316400"/>
            <a:chExt cx="226800" cy="231840"/>
          </a:xfrm>
        </p:grpSpPr>
        <p:pic>
          <p:nvPicPr>
            <p:cNvPr id="1227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3164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"/>
            <p:cNvSpPr/>
            <p:nvPr/>
          </p:nvSpPr>
          <p:spPr>
            <a:xfrm rot="10800000">
              <a:off x="942840" y="4371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직사각형 25"/>
          <p:cNvSpPr/>
          <p:nvPr/>
        </p:nvSpPr>
        <p:spPr>
          <a:xfrm>
            <a:off x="1000080" y="4157640"/>
            <a:ext cx="7929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이 제공된 뒤에 행동빈도나 강도가 증가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칭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스티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리맥의 원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더 선호하는 행동이 덜 선호하는 행동을 증가시키는 정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으로 작용하는 현상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요약을 마치면 게임을 이용한 활동을 할 수 있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직사각형 26"/>
          <p:cNvSpPr/>
          <p:nvPr/>
        </p:nvSpPr>
        <p:spPr>
          <a:xfrm>
            <a:off x="1000080" y="557208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부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증가시키기 위해 자극을 제거하거나 피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통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복용으로 근육통을 제거하지만 알약 먹는 행동이 증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타원 27"/>
          <p:cNvGrpSpPr/>
          <p:nvPr/>
        </p:nvGrpSpPr>
        <p:grpSpPr>
          <a:xfrm>
            <a:off x="858960" y="5742000"/>
            <a:ext cx="226800" cy="231840"/>
            <a:chOff x="858960" y="5742000"/>
            <a:chExt cx="226800" cy="231840"/>
          </a:xfrm>
        </p:grpSpPr>
        <p:pic>
          <p:nvPicPr>
            <p:cNvPr id="1232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7420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3" name=""/>
            <p:cNvSpPr/>
            <p:nvPr/>
          </p:nvSpPr>
          <p:spPr>
            <a:xfrm rot="10800000">
              <a:off x="942840" y="58006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1T01:01:05Z</dcterms:modified>
  <cp:revision>389</cp:revision>
  <dc:subject/>
  <dc:title>PowerPoint Template</dc:title>
</cp:coreProperties>
</file>